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9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30.jpeg" ContentType="image/jpeg"/>
  <Override PartName="/ppt/media/image31.png" ContentType="image/png"/>
  <Override PartName="/ppt/media/image32.png" ContentType="image/png"/>
  <Override PartName="/ppt/media/image3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4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A8947-6595-48F8-ACB5-8F1D1219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C08ED-A3E2-4A91-8E18-46EE16FA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43DC-1CCC-4093-A83F-C6357AF9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92A44-C34A-4A7C-BAC9-D6090CCD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8FCB-5A47-4ECC-A1B7-E24E1E49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BCB2-C331-4151-976E-29866B09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D663-874F-499B-BC91-CEF767D3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7B5D-1754-40D4-BC31-CD4F524E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FA6F-D63B-4F91-AC17-4385D97F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3359-EA4B-49FD-BE98-16850559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2136-CCFD-4C28-92AE-037FA3B4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D1247-6D46-44C8-8373-C64945C5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E096-FAD3-4F20-A6D8-5307CE08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8A4E-DAB3-4EA6-98C0-1F5AEB51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5D88-7F53-4A71-A4FE-798D298A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7175-520B-4707-8BD3-7165DAB7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500D-25A0-4DFF-9B80-5B333935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BF6F2-4380-4BAD-8AAD-681167FB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D8893-53FC-4813-A658-550A5CA2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A5FEF-CD4D-48C7-8E00-AA465157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E8283-A4A4-4190-B1A7-A907E3A6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77E9E-7DF6-4602-83FE-8C2B40D1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B86CD-D780-420D-8944-BA52ADE2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9D9F8-0A66-4F64-A300-8A16D15A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BD95-6F1E-4A53-983D-7CE9C0D785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B419-3AE4-4EB7-8469-7DAA192C4A0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NI-Time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47E6-A39F-4DE3-B2FF-A72ED8E37BE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7932-5F40-416A-8EE1-02F74B56AB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../FILE%20HO%20TRO%20BAI%20GIANG/THANG%20&#272;I&#7874;M%20TI&#7874;U%20LU&#7852;N_CO%20THUYET%20TRINH.doc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bbbbbbbbbbbbbbbbbbbbbbbbbbbbbbbbbbbbbbbbbbbbbbbbbbbbbbbbbbbbbbbbbbbbbbbbbbbbbbbbbbbbbbbbbbbbbbbbbbbbbbbbbbbbbbbbbbbb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0F8D-93EA-45C4-8434-280A682FD9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80BF-4CE7-4A93-95C0-D3BAA9560A9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29"/>
                </a:solidFill>
                <a:uFillTx/>
                <a:latin typeface="Arial"/>
                <a:ea typeface="Times New Roman"/>
              </a:rPr>
              <a:t>MÔN HỌC</a:t>
            </a: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</a:rPr>
              <a:t>QUẢN TRỊ </a:t>
            </a: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VĂN PHÒNG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29"/>
                </a:solidFill>
                <a:latin typeface="Arial"/>
                <a:ea typeface="Times New Roman"/>
              </a:rPr>
              <a:t>(MANAGEMENT OF OFFICE)</a:t>
            </a: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GV: TS. Nguyễn Nam Hà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0909812330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namhadhcn@yahoo.com.v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1752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sp>
        <p:nvSpPr>
          <p:cNvPr id="111" name="Frame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2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Knowledge: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Understand the functions, tasks, organizational structure, organizational form of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Understand the system of legal, judicial documents, administrative docu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5782-820D-4354-81A3-BBE03F2424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5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D368-C585-4354-A3DD-4FB0557ACCA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7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RSE OBJECTIVE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8" name="Content Placeholder 2"/>
          <p:cNvSpPr/>
          <p:nvPr/>
        </p:nvSpPr>
        <p:spPr>
          <a:xfrm>
            <a:off x="457200" y="3809880"/>
            <a:ext cx="8229600" cy="2590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Skills:          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Know how to organize, manage office</a:t>
            </a:r>
            <a:br>
              <a:rPr sz="3200"/>
            </a:b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Drafting and presentation of common administrative documents: Decision, notify, report, reports, documents ..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9" name="Horizontal Scroll 8"/>
          <p:cNvSpPr/>
          <p:nvPr/>
        </p:nvSpPr>
        <p:spPr>
          <a:xfrm>
            <a:off x="457200" y="990720"/>
            <a:ext cx="27432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0" name="Horizontal Scroll 9"/>
          <p:cNvSpPr/>
          <p:nvPr/>
        </p:nvSpPr>
        <p:spPr>
          <a:xfrm>
            <a:off x="457200" y="3733920"/>
            <a:ext cx="27432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1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010E-58FE-4BF2-810C-7D042D2A90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3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F5A0-C303-474A-94EF-2E734A0188E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Times New Roman"/>
              </a:rPr>
              <a:t>Hiểu chức năng, nhiệm vụ, cơ cấu tổ chức, hình thức tổ chức VP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Times New Roman"/>
              </a:rPr>
              <a:t>Hiểu hệ thống VB QPPL, VBTP, VBHC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6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ỤC TIÊU CỦA MÔN HỌ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457200" y="4114800"/>
            <a:ext cx="8229600" cy="2286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Times New Roman"/>
              </a:rPr>
              <a:t>Biết cách tổ chức, quản lý VP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Times New Roman"/>
              </a:rPr>
              <a:t>Soạn thảo, trình bày VB hành chính thông dụng: Quyết định, thông báo, tờ trình, báo cáo, công văn…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8" name="Horizontal Scroll 8"/>
          <p:cNvSpPr/>
          <p:nvPr/>
        </p:nvSpPr>
        <p:spPr>
          <a:xfrm>
            <a:off x="380880" y="990720"/>
            <a:ext cx="32004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iến thức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9" name="Horizontal Scroll 9"/>
          <p:cNvSpPr/>
          <p:nvPr/>
        </p:nvSpPr>
        <p:spPr>
          <a:xfrm>
            <a:off x="380880" y="3505320"/>
            <a:ext cx="32004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ỹ nă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D267-0194-4988-ADAB-6F68CB23CA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2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F9FB-AC31-4631-8502-DB9911DE711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305920" cy="12189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Giáo trình Quản trị văn phòng, Khoa QTKD, Trường ĐHCN TPHCM, 2011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5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ÀI LIỆU MÔN HỌ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6" name="Horizontal Scroll 7"/>
          <p:cNvSpPr/>
          <p:nvPr/>
        </p:nvSpPr>
        <p:spPr>
          <a:xfrm>
            <a:off x="380880" y="990720"/>
            <a:ext cx="3733920" cy="7617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iáo trình chín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457200" y="3429000"/>
            <a:ext cx="8305920" cy="2971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GS.TS. Đồng Thị Thanh Phương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Quản trị 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hành chính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VP,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NXB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.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T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H., TP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HCM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,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2008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2.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Vương Thị Kim Thanh, Quản trị hành chính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VP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. NXB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.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T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K.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, TP.HCM 2009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3.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Mike Harvey, Quản trị hành chính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VP,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NXB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.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Hồng Đức, TPHCM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,</a:t>
            </a:r>
            <a:r>
              <a:rPr b="0" lang="vi-VN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 2008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8" name="Horizontal Scroll 9"/>
          <p:cNvSpPr/>
          <p:nvPr/>
        </p:nvSpPr>
        <p:spPr>
          <a:xfrm>
            <a:off x="380880" y="2819520"/>
            <a:ext cx="373392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am khảo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2DA9-EE2C-4DA4-9532-9533C33762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CC42-DCA0-4C02-82CE-3EB6214FA19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12" name="Picture 2" descr="http://saigon-uni.edu.vn/uploads/fckeditor/image/quantri.JPG"/>
          <p:cNvPicPr/>
          <p:nvPr/>
        </p:nvPicPr>
        <p:blipFill>
          <a:blip r:embed="rId1"/>
          <a:stretch/>
        </p:blipFill>
        <p:spPr>
          <a:xfrm>
            <a:off x="0" y="1295280"/>
            <a:ext cx="2971800" cy="50292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13" name="Rectangle 8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4" name="Title 1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ÀI LIỆU THAM KHẢ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15" name="Picture 8" descr="http://www.davibooks.vn/beta/upload_images/old_picture/a/5f6201605823ea1db63a9ea92cd97c68.jpg"/>
          <p:cNvPicPr/>
          <p:nvPr/>
        </p:nvPicPr>
        <p:blipFill>
          <a:blip r:embed="rId2"/>
          <a:stretch/>
        </p:blipFill>
        <p:spPr>
          <a:xfrm>
            <a:off x="3048120" y="1295280"/>
            <a:ext cx="2971800" cy="50292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pic>
        <p:nvPicPr>
          <p:cNvPr id="216" name="Picture 10" descr="http://t.f10.photo.zdn.vn/upload/original/2012/06/16/20/10/1339852234956358045.jpg"/>
          <p:cNvPicPr/>
          <p:nvPr/>
        </p:nvPicPr>
        <p:blipFill>
          <a:blip r:embed="rId3"/>
          <a:stretch/>
        </p:blipFill>
        <p:spPr>
          <a:xfrm>
            <a:off x="6095880" y="1295280"/>
            <a:ext cx="3048120" cy="50292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217" name="Horizontal Scroll 9"/>
          <p:cNvSpPr/>
          <p:nvPr/>
        </p:nvSpPr>
        <p:spPr>
          <a:xfrm>
            <a:off x="0" y="0"/>
            <a:ext cx="9144000" cy="12193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ÀI LIỆU THAM KHẢ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8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C80E-D44E-4985-B2B0-9BFE21C04E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0" name="Date Placeholder 4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DA45-F975-4E7F-96D9-688E3029B5F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57200" y="1066680"/>
            <a:ext cx="830592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iến pháp 1992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Luật Ban hành văn bản quy phạm pháp luật 3/6/2008 (01/01/2009)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Luật Ban hành văn bản quy phạm pháp luật của HĐND, UBND 3/12/2004 (1/4/2005)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Luật Lưu trữ 01/01/2011 (01/7/2012)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3" name="Horizontal Scroll 7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BẢN QUY PHẠM 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5040"/>
            <a:ext cx="9144000" cy="10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8FB9-CD0D-40D3-869E-0BEA0F53AA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5606-83FA-4FFD-ACE7-196AA49DFE9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28" name="Picture 2" descr="http://4.bp.blogspot.com/-86u6ApdL0sM/ULtvPfksD2I/AAAAAAAAAIw/6FPKO3h7Sj0/s400/hienphap.jpg"/>
          <p:cNvPicPr/>
          <p:nvPr/>
        </p:nvPicPr>
        <p:blipFill>
          <a:blip r:embed="rId1"/>
          <a:stretch/>
        </p:blipFill>
        <p:spPr>
          <a:xfrm>
            <a:off x="0" y="1219320"/>
            <a:ext cx="3048120" cy="563868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4"/>
          <p:cNvSpPr/>
          <p:nvPr/>
        </p:nvSpPr>
        <p:spPr>
          <a:xfrm>
            <a:off x="193680" y="-243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3048120" y="1219320"/>
            <a:ext cx="2971800" cy="5638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6019920" y="1219320"/>
            <a:ext cx="3124080" cy="5638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sp>
        <p:nvSpPr>
          <p:cNvPr id="232" name="Horizontal Scroll 9"/>
          <p:cNvSpPr/>
          <p:nvPr/>
        </p:nvSpPr>
        <p:spPr>
          <a:xfrm>
            <a:off x="0" y="33480"/>
            <a:ext cx="91440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BẢN QUY PHẠM 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3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0C66-F0ED-4596-857E-6036A411F8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5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8798-4EE6-4B24-BA05-B312A2FD079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58/2001 Quản lý con dấ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82/2001 Nghi lễ Nhà nướ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110/2004 Công tác văn th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24/2009 Luật Ban hành VBQP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31/2009 Sửa đổi NĐ 58/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9/2010 Sửa đổi NĐ 110/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Đ 01/2013 Luật Lưu tr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8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BẢN QUY PHẠM 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0"/>
                            </p:stCondLst>
                            <p:childTnLst>
                              <p:par>
                                <p:cTn id="5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6000"/>
                            </p:stCondLst>
                            <p:childTnLst>
                              <p:par>
                                <p:cTn id="5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7000"/>
                            </p:stCondLst>
                            <p:childTnLst>
                              <p:par>
                                <p:cTn id="5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074D-6458-4EE0-B855-CC4D176F18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1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6221-1649-456A-875B-F4EF677C1CA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ông tư liên tịch 55_6/5/2005_BNV-VPCP: Hướng dẫn về thể thức và kỹ thuật trình bày văn bả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ông tư 01_19/1/2011_Bộ Nội vụ: Hướng dẫn thể thức và kỹ thuật trình bày văn bản hành chí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ông tư 9/2011/Bộ Nội vụ_T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h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ờ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i h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ạ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n b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ả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o qu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ả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n h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ồ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 sơ, t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à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i li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ệ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u c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ủ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Q, 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4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BẢN QUY PHẠM PHÁP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5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BDF0-55D3-47A5-BCCB-BE233D12EC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7" name="Date Placeholder 5"/>
          <p:cNvSpPr/>
          <p:nvPr/>
        </p:nvSpPr>
        <p:spPr>
          <a:xfrm>
            <a:off x="457200" y="6245280"/>
            <a:ext cx="3048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C4CF-B42F-48F9-AE1F-757136EACBF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905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 u="sng">
                <a:solidFill>
                  <a:srgbClr val="000029"/>
                </a:solidFill>
                <a:uFillTx/>
                <a:latin typeface="Arial"/>
              </a:rPr>
              <a:t>www.fba.iuh.edu.vn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/ Bài giảng giáo viên / Nguyễn Nam Hà / Môn QTV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0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ỊA CHỈ TẢI BÀI GIẢNG ĐIỆN TỬ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457200" y="3962520"/>
            <a:ext cx="8229600" cy="2438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1" lang="en-US" sz="3600" spc="-1" strike="noStrike" u="sng">
                <a:solidFill>
                  <a:srgbClr val="000029"/>
                </a:solidFill>
                <a:uFillTx/>
                <a:latin typeface="Arial"/>
              </a:rPr>
              <a:t>www.gov.vn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/ Hệ thống văn bản / Thông tư / Năm ban hành / 2011 / Thông tư số 01 Bộ Nội vụ - thể thức &amp; kỹ thuật trình bày VBH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2" name="Horizontal Scroll 8"/>
          <p:cNvSpPr/>
          <p:nvPr/>
        </p:nvSpPr>
        <p:spPr>
          <a:xfrm>
            <a:off x="304920" y="3124080"/>
            <a:ext cx="8458200" cy="9144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ỊA CHỈ TẢI VĂN BẢN LUẬ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3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000"/>
                            </p:stCondLst>
                            <p:childTnLst>
                              <p:par>
                                <p:cTn id="6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4DBD-8EC2-4A62-A8D9-862AEBE1BA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5" name="Date Placeholder 5"/>
          <p:cNvSpPr/>
          <p:nvPr/>
        </p:nvSpPr>
        <p:spPr>
          <a:xfrm>
            <a:off x="457200" y="6245280"/>
            <a:ext cx="3048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8D0E-65FF-4192-A3AF-E2B9B6C036E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ttp://www.na.gov.vn 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Quốc hội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ttp://www.gov.vn 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hính phủ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ttp://www.gso.gov.vn (Tổng cục thống kê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ttp://www.iuh.edu.vn (ĐHCN TPHC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8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WEBSITE THAM KH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Ả</a:t>
            </a: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4000"/>
                            </p:stCondLst>
                            <p:childTnLst>
                              <p:par>
                                <p:cTn id="7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30E8-AB4F-46A3-9644-7F4BE70CE0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6160-0F3A-49BB-955E-7C2DB091A8B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pic>
        <p:nvPicPr>
          <p:cNvPr id="117" name="Content Placeholder 8" descr=""/>
          <p:cNvPicPr/>
          <p:nvPr/>
        </p:nvPicPr>
        <p:blipFill>
          <a:blip r:embed="rId2"/>
          <a:stretch/>
        </p:blipFill>
        <p:spPr>
          <a:xfrm>
            <a:off x="438120" y="1200240"/>
            <a:ext cx="8309160" cy="5219640"/>
          </a:xfrm>
          <a:prstGeom prst="rect">
            <a:avLst/>
          </a:prstGeom>
          <a:ln w="0">
            <a:noFill/>
          </a:ln>
        </p:spPr>
      </p:pic>
      <p:sp>
        <p:nvSpPr>
          <p:cNvPr id="118" name="Horizontal Scroll 6"/>
          <p:cNvSpPr/>
          <p:nvPr/>
        </p:nvSpPr>
        <p:spPr>
          <a:xfrm>
            <a:off x="304920" y="18576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ÁC ĐỊNH MỤC TIÊU HỌC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26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ED07-BE06-4E78-ACA4-CB13F6471F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3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C97D-2CA3-47E1-8114-3AF353571FD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64" name="Picture 2" descr="http://mic.gov.vn/tintucsukien/tintonghop/PublishingImages/congchinhphu.jpg"/>
          <p:cNvPicPr/>
          <p:nvPr/>
        </p:nvPicPr>
        <p:blipFill>
          <a:blip r:embed="rId2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65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9BDA-207E-4948-9216-CAACED66D3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7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9971-DB82-404E-97B0-950740CD517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. VP ảo: Thực trạng &amp; giải pháp phát triể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. Giao tiếp VP - tiếp khách qua điện thoại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Giao tiếp VP - tiếp khách trực tiế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ấn đề phong thủy trong lựa chọn vị trí đặt V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0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1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36EC-2545-4A75-8CC2-9C32B837AC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3" name="Date Placeholder 5"/>
          <p:cNvSpPr/>
          <p:nvPr/>
        </p:nvSpPr>
        <p:spPr>
          <a:xfrm>
            <a:off x="457200" y="6245280"/>
            <a:ext cx="3048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D4B5-5A78-4420-A931-7470D544BCC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ấn đề phong thủy trong bài trí V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6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ổ chức công tác VP trong IUH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7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Sử dụng không gian V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8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Ánh sáng trong V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6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7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181A-0CBA-430B-8588-DDEDE96425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9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AD26-6848-4DAF-9BA3-2A2C385358D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9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P “Xanh”: Thực trạng &amp; kiến ngh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0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Nội thất văn phòng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1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ăn phòng &amp; vấn đề bảo vệ môi trường: Thực trạng &amp; kiến ngh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2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P &amp; vấn đề tiết kiệm năng lượng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3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P mở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2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4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Quản trị thông tin: Thực trạng &amp; kiến ngh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5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Quản trị thời gian: Thực trạng &amp; kiến ngh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6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. Tổ chức sự kiện trong doanh nghiệp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7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ăn phòng điện tử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B5FA-6540-48BD-BCDC-FE66E8B2BA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6" name="Date Placeholder 4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D41E-F690-42AE-8FD7-17C35260F32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8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8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Kỹ năng làm việc theo nhó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9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Quản trị hồ sơ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0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Áp dụng 5S trong quản trị văn phò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1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Hội họp tại VN: Thực trạng &amp; kiến ngh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2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Ứng dụng hệ thống quản lý chất lượng ISO trong quản trị văn phò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16B1-66A6-4F8F-A0A8-BD175BE53C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2" name="Date Placeholder 4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23D4-F6B4-4FE7-9437-64774A72DD7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4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ĐỀ TÀI TIỂU LUẬ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5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142A-2838-4607-AD02-74F2F9561F8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591C-BB49-4780-A86A-37BCFD47C0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98" name="Bevel 4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375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29"/>
                </a:solidFill>
                <a:uFillTx/>
                <a:latin typeface="Arial"/>
                <a:ea typeface="Times New Roman"/>
              </a:rPr>
              <a:t>PART I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OVERVIEW OF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OFFICEMANAGEMENT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99" name="Picture 7" descr="https://encrypted-tbn1.gstatic.com/images?q=tbn:ANd9GcSwEocHnrCMfwce3RIGPI1Q0HsXY-22bZAU2GjqsNFI_XE9TSgZ"/>
          <p:cNvPicPr/>
          <p:nvPr/>
        </p:nvPicPr>
        <p:blipFill>
          <a:blip r:embed="rId1"/>
          <a:stretch/>
        </p:blipFill>
        <p:spPr>
          <a:xfrm>
            <a:off x="193680" y="228600"/>
            <a:ext cx="3159000" cy="2514600"/>
          </a:xfrm>
          <a:prstGeom prst="rect">
            <a:avLst/>
          </a:prstGeom>
          <a:ln w="0">
            <a:noFill/>
          </a:ln>
        </p:spPr>
      </p:pic>
      <p:sp>
        <p:nvSpPr>
          <p:cNvPr id="30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58C6-FBA7-4FBB-96B0-F83A8FCFED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DC0D-3BB4-4F18-ACF0-5A8D7BF7498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4" name="Bevel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2375"/>
            </a:avLst>
          </a:prstGeom>
          <a:solidFill>
            <a:srgbClr val="ffffff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29"/>
                </a:solidFill>
                <a:uFillTx/>
                <a:latin typeface="Arial"/>
                <a:ea typeface="Times New Roman"/>
              </a:rPr>
              <a:t>Phần I</a:t>
            </a: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TỔNG QUAN VỀ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QUẢN TRỊ VĂN PHÒNG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05" name="Picture 6" descr="http://www.getentrepreneurial.com/images/Office%20Management.gif"/>
          <p:cNvPicPr/>
          <p:nvPr/>
        </p:nvPicPr>
        <p:blipFill>
          <a:blip r:embed="rId1"/>
          <a:stretch/>
        </p:blipFill>
        <p:spPr>
          <a:xfrm>
            <a:off x="193680" y="228600"/>
            <a:ext cx="3019320" cy="2362320"/>
          </a:xfrm>
          <a:prstGeom prst="rect">
            <a:avLst/>
          </a:prstGeom>
          <a:ln w="0">
            <a:noFill/>
          </a:ln>
        </p:spPr>
      </p:pic>
      <p:sp>
        <p:nvSpPr>
          <p:cNvPr id="30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D34E-30C6-41DC-B77E-0E41E54C46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F17D-E21C-450F-AF45-6228292D00E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0" y="30240"/>
            <a:ext cx="9144000" cy="63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OVERVIEW OF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  <a:ea typeface="Times New Roman"/>
              </a:rPr>
              <a:t>OFFICE MANAGEMENT</a:t>
            </a:r>
            <a:endParaRPr b="0" lang="en-US" sz="6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PERIODS FOR LECTURE: 3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(HOME STUDY: 6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1" name="Frame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2" name="Horizontal Scroll 6"/>
          <p:cNvSpPr/>
          <p:nvPr/>
        </p:nvSpPr>
        <p:spPr>
          <a:xfrm>
            <a:off x="2743200" y="914400"/>
            <a:ext cx="36576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6FB1-E275-4695-8D09-D9E5389FD0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1DC0-5358-46E3-825C-E922FC5F2CB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</a:rPr>
              <a:t>KHÁI QUÁ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29"/>
                </a:solidFill>
                <a:latin typeface="Arial"/>
              </a:rPr>
              <a:t>QUẢN TRỊ VĂN PHÒ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SỐ TIẾT GIẢNG: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(TỰ HỌC: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8" name="Frame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9" name="Horizontal Scroll 6"/>
          <p:cNvSpPr/>
          <p:nvPr/>
        </p:nvSpPr>
        <p:spPr>
          <a:xfrm>
            <a:off x="2895480" y="838080"/>
            <a:ext cx="33530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ương 1</a:t>
            </a:r>
            <a:endParaRPr b="0" lang="en-US" sz="4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20" name="Picture 9" descr="http://sto.com.vn/uploads/download/images/sto-logo.jpg"/>
          <p:cNvPicPr/>
          <p:nvPr/>
        </p:nvPicPr>
        <p:blipFill>
          <a:blip r:embed="rId1"/>
          <a:stretch/>
        </p:blipFill>
        <p:spPr>
          <a:xfrm>
            <a:off x="152280" y="152280"/>
            <a:ext cx="2543400" cy="2219400"/>
          </a:xfrm>
          <a:prstGeom prst="rect">
            <a:avLst/>
          </a:prstGeom>
          <a:ln w="0">
            <a:noFill/>
          </a:ln>
        </p:spPr>
      </p:pic>
      <p:sp>
        <p:nvSpPr>
          <p:cNvPr id="321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CC97-9ACA-4239-BC17-AE971DEC96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0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57D5-4C3F-4630-979A-E4E4CE6FCCC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B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bả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BHC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bản hành chín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BTP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bản tư phá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BQPPL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bản quy phạm pháp luậ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DN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Doanh nghiệ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P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phò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VPĐD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Văn phòng đại diệ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QTVP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Quản trị văn phò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300" spc="-1" strike="noStrike">
                <a:solidFill>
                  <a:srgbClr val="000029"/>
                </a:solidFill>
                <a:latin typeface="Arial"/>
              </a:rPr>
              <a:t>CQ TC: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 Cơ quan, tổ chức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3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NH MỤC TỪ VIẾT TẮ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24" name="Picture 6" descr="http://vnexpress.net/Files/Subject/3b/be/07/d5/a-tb-1-nhu-cau-thue-van-pho.jpg"/>
          <p:cNvPicPr/>
          <p:nvPr/>
        </p:nvPicPr>
        <p:blipFill>
          <a:blip r:embed="rId1"/>
          <a:stretch/>
        </p:blipFill>
        <p:spPr>
          <a:xfrm>
            <a:off x="6095880" y="3467160"/>
            <a:ext cx="2590920" cy="293364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25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oncepts, functions and office 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rganizational structure of the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rinciple of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ffice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ffice management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Methods of office lay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active form of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BA09-F0DE-42B4-94E1-3B17C83C83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4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8F9A-B4C2-4AE8-830A-F20498084AC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6" name="Horizontal Scroll 6"/>
          <p:cNvSpPr/>
          <p:nvPr/>
        </p:nvSpPr>
        <p:spPr>
          <a:xfrm>
            <a:off x="304920" y="7632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SON CONTEN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7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A3D2-F3F2-4C75-B99D-D7FC742DE7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9" name="Date Placeholder 5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B283-0C15-4477-A622-DD6500DD15B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Khái niệm, chức năng, nhiệm vụ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ơ cấu tổ chức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guyên tắc hoạt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T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ổ chức văn phò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hương pháp quản lý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hương pháp bố trí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ác hình thức hoạt động của V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2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ỘI DUNG BÀI GIẢ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8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3000"/>
                            </p:stCondLst>
                            <p:childTnLst>
                              <p:par>
                                <p:cTn id="8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4000"/>
                            </p:stCondLst>
                            <p:childTnLst>
                              <p:par>
                                <p:cTn id="8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0"/>
                            </p:stCondLst>
                            <p:childTnLst>
                              <p:par>
                                <p:cTn id="8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6000"/>
                            </p:stCondLst>
                            <p:childTnLst>
                              <p:par>
                                <p:cTn id="8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7000"/>
                            </p:stCondLst>
                            <p:childTnLst>
                              <p:par>
                                <p:cTn id="8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Narrow sense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Head office of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Broad sense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general operating apparatus of the organization, ensuring the technical material conditions for the operation of the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Management perspective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Where receiving and processing information for the adminis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AA4E-EC63-4CC9-95BF-6A09CB6863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6" name="Date Placeholder 4"/>
          <p:cNvSpPr/>
          <p:nvPr/>
        </p:nvSpPr>
        <p:spPr>
          <a:xfrm>
            <a:off x="457200" y="6245280"/>
            <a:ext cx="2971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EE34-36EE-4EF6-A1AE-E55B7C89511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8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 CONCEPTS, FUNCTIONS &amp; DUTIES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9" name="Horizontal Scroll 7"/>
          <p:cNvSpPr/>
          <p:nvPr/>
        </p:nvSpPr>
        <p:spPr>
          <a:xfrm>
            <a:off x="380880" y="9907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1. OFFICE CONCEP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0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72DF-A9DD-4584-A064-F5E51B438D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2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7588-7A37-42F6-B84A-D82309D327D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Nghĩa hẹp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Trụ sở làm việc của 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Nghĩa rộng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Bộ máy điều hành tổng hợp của CQ, TC, bảo đảm các điều kiện vật chất, kỹ thuật cho hoạt động của CQ, 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Góc độ quản trị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Nơi tiếp nhận, xử lý thông tin phục vụ công tác điều hà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5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1. KHÁI NIỆM, CHỨC NĂNG, NHIỆM VỤ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6" name="Horizontal Scroll 7"/>
          <p:cNvSpPr/>
          <p:nvPr/>
        </p:nvSpPr>
        <p:spPr>
          <a:xfrm>
            <a:off x="380880" y="9907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1. KHÁI NIỆM VĂN PHÒ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47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ffice management is the planning, organization, coordination, standardization and control of information processing activities in the off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9A84-F08C-4B22-A162-0EFBDAEC50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0" name="Date Placeholder 4"/>
          <p:cNvSpPr/>
          <p:nvPr/>
        </p:nvSpPr>
        <p:spPr>
          <a:xfrm>
            <a:off x="457200" y="6245280"/>
            <a:ext cx="3048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ACE5-EB11-44CE-958C-970A11C8A21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2" name="Horizontal Scroll 6"/>
          <p:cNvSpPr/>
          <p:nvPr/>
        </p:nvSpPr>
        <p:spPr>
          <a:xfrm>
            <a:off x="380880" y="76320"/>
            <a:ext cx="8382240" cy="9903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2. OFFICE MANAGEMENT CONCEPT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53" name="Picture 8" descr="https://encrypted-tbn3.gstatic.com/images?q=tbn:ANd9GcTASSXGrYCIzCqCsb1CLTqtzaqIZ_TWDiMl5SAbdvunbleKFRu5"/>
          <p:cNvPicPr/>
          <p:nvPr/>
        </p:nvPicPr>
        <p:blipFill>
          <a:blip r:embed="rId1"/>
          <a:stretch/>
        </p:blipFill>
        <p:spPr>
          <a:xfrm>
            <a:off x="4572000" y="3429000"/>
            <a:ext cx="4067280" cy="2895480"/>
          </a:xfrm>
          <a:prstGeom prst="rect">
            <a:avLst/>
          </a:prstGeom>
          <a:ln w="0">
            <a:noFill/>
          </a:ln>
        </p:spPr>
      </p:pic>
      <p:sp>
        <p:nvSpPr>
          <p:cNvPr id="354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CA28-757D-479D-A324-0994370B16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6" name="Date Placeholder 5"/>
          <p:cNvSpPr/>
          <p:nvPr/>
        </p:nvSpPr>
        <p:spPr>
          <a:xfrm>
            <a:off x="457200" y="6245280"/>
            <a:ext cx="3200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8834-D287-4A15-85F2-E09036B7720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Quản trị hành chánh văn phòng là việc hoạch định, tổ chức, phối hợp, tiêu chuẩn hóa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&amp; </a:t>
            </a:r>
            <a:r>
              <a:rPr b="0" lang="vi-VN" sz="3600" spc="-1" strike="noStrike">
                <a:solidFill>
                  <a:srgbClr val="000029"/>
                </a:solidFill>
                <a:latin typeface="Arial"/>
              </a:rPr>
              <a:t>kiểm soát các hoạt động xử lý thông tin trong văn phò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9" name="Horizontal Scroll 6"/>
          <p:cNvSpPr/>
          <p:nvPr/>
        </p:nvSpPr>
        <p:spPr>
          <a:xfrm>
            <a:off x="380880" y="33480"/>
            <a:ext cx="8382240" cy="9572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1.2. KHÁI NIỆM QT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360" name="Picture 8" descr="http://1.bp.blogspot.com/-dd3w6dxxiNo/Tj86_KLudlI/AAAAAAAABDM/5Mk987xlfKw/s400/i_love_office_management_postcard-p239729007590858055qibm_400.jpg"/>
          <p:cNvPicPr/>
          <p:nvPr/>
        </p:nvPicPr>
        <p:blipFill>
          <a:blip r:embed="rId1"/>
          <a:stretch/>
        </p:blipFill>
        <p:spPr>
          <a:xfrm>
            <a:off x="4495680" y="3505320"/>
            <a:ext cx="411480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1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42CB-44E3-4D04-82C0-E838898CDA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7168-38EF-4D19-B3C7-B1D6990E808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1295280" y="12193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planning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7" name="Horizontal Scroll 6"/>
          <p:cNvSpPr/>
          <p:nvPr/>
        </p:nvSpPr>
        <p:spPr>
          <a:xfrm>
            <a:off x="380880" y="10944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CTIONS OF OFFICE MANAGEMEN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8" name="Rounded Rectangle 7"/>
          <p:cNvSpPr/>
          <p:nvPr/>
        </p:nvSpPr>
        <p:spPr>
          <a:xfrm>
            <a:off x="457200" y="12193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1295280" y="19051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rganize the office work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1295280" y="25909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Direct the work of the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1295280" y="32767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heck for office work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1295280" y="3962520"/>
            <a:ext cx="7391520" cy="23619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dministrative Services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(legal papers valid in the field of management, not for profit purposes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3" name="Rounded Rectangle 12"/>
          <p:cNvSpPr/>
          <p:nvPr/>
        </p:nvSpPr>
        <p:spPr>
          <a:xfrm>
            <a:off x="457200" y="19051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4" name="Rounded Rectangle 13"/>
          <p:cNvSpPr/>
          <p:nvPr/>
        </p:nvSpPr>
        <p:spPr>
          <a:xfrm>
            <a:off x="457200" y="25909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5" name="Rounded Rectangle 14"/>
          <p:cNvSpPr/>
          <p:nvPr/>
        </p:nvSpPr>
        <p:spPr>
          <a:xfrm>
            <a:off x="457200" y="32767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6" name="Rounded Rectangle 15"/>
          <p:cNvSpPr/>
          <p:nvPr/>
        </p:nvSpPr>
        <p:spPr>
          <a:xfrm>
            <a:off x="457200" y="3962520"/>
            <a:ext cx="762120" cy="236196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2361960"/>
              <a:gd name="textAreaBottom" fmla="*/ 2324880 h 2361960"/>
            </a:gdLst>
            <a:ahLst/>
            <a:rect l="textAreaLeft" t="textAreaTop" r="textAreaRight" b="textAreaBottom"/>
            <a:pathLst>
              <a:path w="21600" h="66921">
                <a:moveTo>
                  <a:pt x="3600" y="0"/>
                </a:moveTo>
                <a:arcTo wR="3600" hR="3600" stAng="16200000" swAng="-5400000"/>
                <a:lnTo>
                  <a:pt x="0" y="63321"/>
                </a:lnTo>
                <a:arcTo wR="3600" hR="3600" stAng="10800000" swAng="-5400000"/>
                <a:lnTo>
                  <a:pt x="18000" y="669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00"/>
                            </p:stCondLst>
                            <p:childTnLst>
                              <p:par>
                                <p:cTn id="9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9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500"/>
                            </p:stCondLst>
                            <p:childTnLst>
                              <p:par>
                                <p:cTn id="9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300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40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4500"/>
                            </p:stCondLst>
                            <p:childTnLst>
                              <p:par>
                                <p:cTn id="9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3694-65D2-4735-A54E-4D315AFF1F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8" name="Date Placeholder 2"/>
          <p:cNvSpPr/>
          <p:nvPr/>
        </p:nvSpPr>
        <p:spPr>
          <a:xfrm>
            <a:off x="457200" y="62452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D616-8CC8-4723-8BFB-7975CFC316C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1295280" y="12193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Hoạch định công tác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1" name="Horizontal Scroll 5"/>
          <p:cNvSpPr/>
          <p:nvPr/>
        </p:nvSpPr>
        <p:spPr>
          <a:xfrm>
            <a:off x="380880" y="109440"/>
            <a:ext cx="838224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HỨC NĂNG CỦA QT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3" name="Rounded Rectangle 7"/>
          <p:cNvSpPr/>
          <p:nvPr/>
        </p:nvSpPr>
        <p:spPr>
          <a:xfrm>
            <a:off x="457200" y="12193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1295280" y="19051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Tổ chức thực hiện công việc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295280" y="25909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Lãnh đạo công tác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1295280" y="3276720"/>
            <a:ext cx="739152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Kiểm tra công việc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1295280" y="3962520"/>
            <a:ext cx="7391520" cy="23619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Dịch vụ hành chính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(cấp giấy tờ có giá trị pháp lý trong lĩnh vực quản lý, không nhằm mục tiêu lợi nhuận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8" name="Rounded Rectangle 12"/>
          <p:cNvSpPr/>
          <p:nvPr/>
        </p:nvSpPr>
        <p:spPr>
          <a:xfrm>
            <a:off x="457200" y="19051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9" name="Rounded Rectangle 13"/>
          <p:cNvSpPr/>
          <p:nvPr/>
        </p:nvSpPr>
        <p:spPr>
          <a:xfrm>
            <a:off x="457200" y="25909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0" name="Rounded Rectangle 14"/>
          <p:cNvSpPr/>
          <p:nvPr/>
        </p:nvSpPr>
        <p:spPr>
          <a:xfrm>
            <a:off x="457200" y="3276720"/>
            <a:ext cx="762120" cy="609480"/>
          </a:xfrm>
          <a:prstGeom prst="roundRect">
            <a:avLst>
              <a:gd name="adj" fmla="val 16667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1" name="Rounded Rectangle 15"/>
          <p:cNvSpPr/>
          <p:nvPr/>
        </p:nvSpPr>
        <p:spPr>
          <a:xfrm>
            <a:off x="457200" y="3962520"/>
            <a:ext cx="762120" cy="236196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2361960"/>
              <a:gd name="textAreaBottom" fmla="*/ 2324880 h 2361960"/>
            </a:gdLst>
            <a:ahLst/>
            <a:rect l="textAreaLeft" t="textAreaTop" r="textAreaRight" b="textAreaBottom"/>
            <a:pathLst>
              <a:path w="21600" h="66921">
                <a:moveTo>
                  <a:pt x="3600" y="0"/>
                </a:moveTo>
                <a:arcTo wR="3600" hR="3600" stAng="16200000" swAng="-5400000"/>
                <a:lnTo>
                  <a:pt x="0" y="63321"/>
                </a:lnTo>
                <a:arcTo wR="3600" hR="3600" stAng="10800000" swAng="-5400000"/>
                <a:lnTo>
                  <a:pt x="18000" y="669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Content Placeholder 5" descr=""/>
          <p:cNvPicPr/>
          <p:nvPr/>
        </p:nvPicPr>
        <p:blipFill>
          <a:blip r:embed="rId1"/>
          <a:stretch/>
        </p:blipFill>
        <p:spPr>
          <a:xfrm>
            <a:off x="291960" y="1500120"/>
            <a:ext cx="8560080" cy="4668840"/>
          </a:xfrm>
          <a:prstGeom prst="rect">
            <a:avLst/>
          </a:prstGeom>
          <a:ln w="0">
            <a:noFill/>
          </a:ln>
        </p:spPr>
      </p:pic>
      <p:sp>
        <p:nvSpPr>
          <p:cNvPr id="39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E6F3-635B-4B66-8006-B2BB190E63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4" name="Date Placeholder 4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5963-B4BD-4A23-9DF1-22FC1922106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6" name="Horizontal Scroll 7"/>
          <p:cNvSpPr/>
          <p:nvPr/>
        </p:nvSpPr>
        <p:spPr>
          <a:xfrm>
            <a:off x="304920" y="10944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3. FUNCTIONS OF THE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7" name="Oval 8"/>
          <p:cNvSpPr/>
          <p:nvPr/>
        </p:nvSpPr>
        <p:spPr>
          <a:xfrm>
            <a:off x="380880" y="1752480"/>
            <a:ext cx="83844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8" name="Oval 9"/>
          <p:cNvSpPr/>
          <p:nvPr/>
        </p:nvSpPr>
        <p:spPr>
          <a:xfrm>
            <a:off x="990720" y="3352680"/>
            <a:ext cx="83808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1828800" y="4952880"/>
            <a:ext cx="83808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0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Content Placeholder 5" descr=""/>
          <p:cNvPicPr/>
          <p:nvPr/>
        </p:nvPicPr>
        <p:blipFill>
          <a:blip r:embed="rId1"/>
          <a:stretch/>
        </p:blipFill>
        <p:spPr>
          <a:xfrm>
            <a:off x="311040" y="1500120"/>
            <a:ext cx="8521920" cy="4741920"/>
          </a:xfrm>
          <a:prstGeom prst="rect">
            <a:avLst/>
          </a:prstGeom>
          <a:ln w="0">
            <a:noFill/>
          </a:ln>
        </p:spPr>
      </p:pic>
      <p:sp>
        <p:nvSpPr>
          <p:cNvPr id="40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B742-44D8-4C1B-93B0-BF372D437A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3" name="Date Placeholder 4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268D-F112-4486-9F55-278F325B7BB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5" name="Horizontal Scroll 7"/>
          <p:cNvSpPr/>
          <p:nvPr/>
        </p:nvSpPr>
        <p:spPr>
          <a:xfrm>
            <a:off x="304920" y="10944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3. CHỨC NĂNG CỦA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6" name="Oval 8"/>
          <p:cNvSpPr/>
          <p:nvPr/>
        </p:nvSpPr>
        <p:spPr>
          <a:xfrm>
            <a:off x="380880" y="1752480"/>
            <a:ext cx="83844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7" name="Oval 9"/>
          <p:cNvSpPr/>
          <p:nvPr/>
        </p:nvSpPr>
        <p:spPr>
          <a:xfrm>
            <a:off x="762120" y="3352680"/>
            <a:ext cx="838080" cy="8384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1676520" y="5029200"/>
            <a:ext cx="838080" cy="838080"/>
          </a:xfrm>
          <a:prstGeom prst="ellipse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Time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9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F012-F99E-47BD-9832-55441C3757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7" name="Date Placeholder 2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9350-4CA9-4FB2-83F5-90FED3365C5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Total units of study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2 units of study (30 information theory + homework)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Course Program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7 Chapter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Essay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A group of 3 to 10 students (classroom presentations)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Exam form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tests / implementation of self-review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400" spc="-1" strike="noStrike">
                <a:solidFill>
                  <a:srgbClr val="000029"/>
                </a:solidFill>
                <a:latin typeface="Arial"/>
              </a:rPr>
              <a:t>Absent from class more than six periods: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Ban the end of the semester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0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 OF COURS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6FCC-22AA-4F88-BB91-A4B0FD0BCE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1" name="Date Placeholder 4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ED41-2B55-468F-9113-D0D548CD19C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Advising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Proposed solutions help leaders handle the job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Synthesis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Receiving, processing, provide information for management and administratio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4" name="Horizontal Scroll 7"/>
          <p:cNvSpPr/>
          <p:nvPr/>
        </p:nvSpPr>
        <p:spPr>
          <a:xfrm>
            <a:off x="304920" y="33480"/>
            <a:ext cx="8458200" cy="1338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.3.1. THE FUNCTION OF ADVISING &amp; SYNTHESIS INFORMATION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415" name="Picture 2" descr="http://www.apave.com.vn/Modules/CMS/Upload/56/Nam_2009/Thang_8/Ngay_17/secretary_1.jpg"/>
          <p:cNvPicPr/>
          <p:nvPr/>
        </p:nvPicPr>
        <p:blipFill>
          <a:blip r:embed="rId1"/>
          <a:stretch/>
        </p:blipFill>
        <p:spPr>
          <a:xfrm>
            <a:off x="4952880" y="3962520"/>
            <a:ext cx="3733920" cy="23907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416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603F-8AAB-4082-B792-67402D894C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8" name="Date Placeholder 5"/>
          <p:cNvSpPr/>
          <p:nvPr/>
        </p:nvSpPr>
        <p:spPr>
          <a:xfrm>
            <a:off x="457200" y="62452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8101-0FF3-4C55-BD49-5B2F6979FB8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5105520" cy="5333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ham mưu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Đề xuất giải pháp giúp lãnh đạo xử lý công việ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ổng hợp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iếp nhận, xử lý, cung cấp thông tin phục vụ quản l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1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.3.1. CHỨC NĂNG THAM MƯU, TỔNG HỢP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422" name="Picture 6" descr="http://www.misa.com.vn/Portals/0/Upload2012/yahoocomvn/Images/10/nghe_tro_ly_bao_chi.jpg"/>
          <p:cNvPicPr/>
          <p:nvPr/>
        </p:nvPicPr>
        <p:blipFill>
          <a:blip r:embed="rId1"/>
          <a:stretch/>
        </p:blipFill>
        <p:spPr>
          <a:xfrm>
            <a:off x="5638680" y="1009800"/>
            <a:ext cx="3095640" cy="53146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42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0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2E63-74F4-4D4B-8954-CC8C790ACE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5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0869-629F-4599-8BC1-42E5E081B6F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457200" y="990720"/>
            <a:ext cx="8229600" cy="26668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Financial management (revenue &amp; expenditure)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Asset Managemen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Ensuring infrastructure, facilities &amp; working conditions of the organiza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8" name="Horizontal Scroll 7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3.2. LOGISTICS FUNCTION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457200" y="4800600"/>
            <a:ext cx="8229600" cy="15238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Focal organization's communication</a:t>
            </a:r>
            <a:br>
              <a:rPr sz="3200"/>
            </a:b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portal of the organiza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0" name="Horizontal Scroll 9"/>
          <p:cNvSpPr/>
          <p:nvPr/>
        </p:nvSpPr>
        <p:spPr>
          <a:xfrm>
            <a:off x="304920" y="380988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3.3. REPRESENTATIVE FUNC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1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6CBA-203B-444A-AC76-1D3BF2BC3A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3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2735-6A61-432A-B66B-861324ACA5C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Quản lý tài chính (thu ch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Quản lý tài s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Bảo đảm cơ sở vật chất, phương tiện &amp; điều kiện làm việc của CQ, 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6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3.2. CHỨC NĂNG HẬU CẦ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457200" y="4800600"/>
            <a:ext cx="8229600" cy="15238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Đầu mối giao tiếp của CQ, T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ổng thông tin của CQ, TC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8" name="Horizontal Scroll 8"/>
          <p:cNvSpPr/>
          <p:nvPr/>
        </p:nvSpPr>
        <p:spPr>
          <a:xfrm>
            <a:off x="304920" y="380988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3.3. CHỨC NĂNG ĐẠI DIỆ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9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0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3"/>
          <p:cNvSpPr/>
          <p:nvPr/>
        </p:nvSpPr>
        <p:spPr>
          <a:xfrm>
            <a:off x="655308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A9F1-4EA3-45B9-B23F-C6E34E7DE5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1" name="Date Placeholder 4"/>
          <p:cNvSpPr/>
          <p:nvPr/>
        </p:nvSpPr>
        <p:spPr>
          <a:xfrm>
            <a:off x="457200" y="63054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C29F-CCAE-42F2-9FF9-0508E79D40A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457200" y="762120"/>
            <a:ext cx="8305920" cy="5715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Collect, process, and transfer information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Develop programs &amp; plan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Preparing documents for handling affairs leaders, meeting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Drafting and issuing documents, supervise the implementation of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Organization of meeting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Organizational communication for internal &amp; external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Management &amp; storage of document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Human resource management, labor, wages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Asset management.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4" name="Horizontal Scroll 7"/>
          <p:cNvSpPr/>
          <p:nvPr/>
        </p:nvSpPr>
        <p:spPr>
          <a:xfrm>
            <a:off x="304920" y="33480"/>
            <a:ext cx="8534160" cy="8046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4. DUTIES OF THE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9829-C09C-4CB3-AB4F-78F0999B3B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7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DD48-4BA1-4A00-AD70-0131FD7D2A1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1752480" y="761760"/>
            <a:ext cx="701064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Thu thập, xử lý, truyền đạt thông 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Xây dựng chương trình, kế ho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Chuẩn bị tài liệu cho lãnh đạo giải quyết công việc, hội họ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0" name="Horizontal Scroll 6"/>
          <p:cNvSpPr/>
          <p:nvPr/>
        </p:nvSpPr>
        <p:spPr>
          <a:xfrm>
            <a:off x="1600200" y="0"/>
            <a:ext cx="7238880" cy="8049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4. NHIỆM VỤ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1" name="Right Arrow Callout 7"/>
          <p:cNvSpPr/>
          <p:nvPr/>
        </p:nvSpPr>
        <p:spPr>
          <a:xfrm>
            <a:off x="152280" y="762120"/>
            <a:ext cx="1524240" cy="1981080"/>
          </a:xfrm>
          <a:prstGeom prst="rightArrowCallout">
            <a:avLst>
              <a:gd name="adj1" fmla="val 48804"/>
              <a:gd name="adj2" fmla="val 49990"/>
              <a:gd name="adj3" fmla="val 5356"/>
              <a:gd name="adj4" fmla="val 88069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ÔNG TIN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2" name="Right Arrow Callout 8"/>
          <p:cNvSpPr/>
          <p:nvPr/>
        </p:nvSpPr>
        <p:spPr>
          <a:xfrm>
            <a:off x="152280" y="2819520"/>
            <a:ext cx="1524240" cy="1904760"/>
          </a:xfrm>
          <a:prstGeom prst="rightArrowCallout">
            <a:avLst>
              <a:gd name="adj1" fmla="val 48798"/>
              <a:gd name="adj2" fmla="val 49986"/>
              <a:gd name="adj3" fmla="val 5356"/>
              <a:gd name="adj4" fmla="val 88069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Ổ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ỨC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3" name="Right Arrow Callout 9"/>
          <p:cNvSpPr/>
          <p:nvPr/>
        </p:nvSpPr>
        <p:spPr>
          <a:xfrm>
            <a:off x="152280" y="4800600"/>
            <a:ext cx="1524240" cy="762120"/>
          </a:xfrm>
          <a:prstGeom prst="rightArrowCallout">
            <a:avLst>
              <a:gd name="adj1" fmla="val 48810"/>
              <a:gd name="adj2" fmla="val 50000"/>
              <a:gd name="adj3" fmla="val 5361"/>
              <a:gd name="adj4" fmla="val 88069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HI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Ớ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4" name="Right Arrow Callout 10"/>
          <p:cNvSpPr/>
          <p:nvPr/>
        </p:nvSpPr>
        <p:spPr>
          <a:xfrm>
            <a:off x="152280" y="5638680"/>
            <a:ext cx="1524240" cy="762120"/>
          </a:xfrm>
          <a:prstGeom prst="rightArrowCallout">
            <a:avLst>
              <a:gd name="adj1" fmla="val 48810"/>
              <a:gd name="adj2" fmla="val 50000"/>
              <a:gd name="adj3" fmla="val 5361"/>
              <a:gd name="adj4" fmla="val 88069"/>
            </a:avLst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ÍNH TOÁN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1752480" y="2819520"/>
            <a:ext cx="7010640" cy="1981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Soạn thảo, ban hành VB, theo dõi đôn đốc việc thực hiệ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Tổ chức hội họp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Tổ chức giao tiếp đối nội, đối ngoại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1752480" y="4876920"/>
            <a:ext cx="7010640" cy="457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Quản lý, lưu trữ VB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1752480" y="5410080"/>
            <a:ext cx="7010640" cy="990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Quản lý nhân sự, tiền lươ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Quản lý tài sản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8" name="Footer Placeholder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6703-0361-4531-8517-7DD6C33C23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0" name="Date Placeholder 4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551B-5E50-4BA6-B412-680883460DD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57200" y="2438280"/>
            <a:ext cx="8229600" cy="3886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dministrative principles (a head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Office issuing the guidance, professional inspection to office subordinate organizations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3" name="Horizontal Scroll 7"/>
          <p:cNvSpPr/>
          <p:nvPr/>
        </p:nvSpPr>
        <p:spPr>
          <a:xfrm>
            <a:off x="304920" y="33480"/>
            <a:ext cx="853416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STRUCTURE &amp; ORGANIZATION OF THE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4" name="Horizontal Scroll 8"/>
          <p:cNvSpPr/>
          <p:nvPr/>
        </p:nvSpPr>
        <p:spPr>
          <a:xfrm>
            <a:off x="380880" y="167652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1. PRINCIPLE OF OPERA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3847-102A-4DEB-9E63-1C8E048D4D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7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488E-2436-4DD5-982F-D41F05BAFA5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guyên tắc hành chính (thủ trưởng lãnh đạ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ăn phòng tổ chức cấp trên hướng dẫn, kiểm tra chuyên môn văn phòng tổ chức cấp dướ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0" name="Horizontal Scroll 6"/>
          <p:cNvSpPr/>
          <p:nvPr/>
        </p:nvSpPr>
        <p:spPr>
          <a:xfrm>
            <a:off x="304920" y="10944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CƠ CẤU, TỔ CHỨC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1" name="Horizontal Scroll 7"/>
          <p:cNvSpPr/>
          <p:nvPr/>
        </p:nvSpPr>
        <p:spPr>
          <a:xfrm>
            <a:off x="380880" y="114300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1. NGUYÊN TẮC HOẠT ĐỘ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2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8607-0B16-4236-ACDC-7C35690110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0A8A-B735-4BA8-B9C1-862500810CE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6" name="Horizontal Scroll 4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2. OFFICE ORGANIZA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7" name="Horizontal Scroll 5"/>
          <p:cNvSpPr/>
          <p:nvPr/>
        </p:nvSpPr>
        <p:spPr>
          <a:xfrm>
            <a:off x="380880" y="114300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2.1. FORMS OF ORGANIZATION OFFIC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457200" y="1981080"/>
            <a:ext cx="41148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a clu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4648320" y="1981080"/>
            <a:ext cx="4038480" cy="42674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on func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0" name="Oval 8"/>
          <p:cNvSpPr/>
          <p:nvPr/>
        </p:nvSpPr>
        <p:spPr>
          <a:xfrm>
            <a:off x="2057400" y="19810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1" name="Oval 9"/>
          <p:cNvSpPr/>
          <p:nvPr/>
        </p:nvSpPr>
        <p:spPr>
          <a:xfrm>
            <a:off x="6248520" y="19810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1338-1434-4350-B63A-696C48FD75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4" name="Date Placeholder 5"/>
          <p:cNvSpPr/>
          <p:nvPr/>
        </p:nvSpPr>
        <p:spPr>
          <a:xfrm>
            <a:off x="457200" y="62452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4951-93ED-46CE-8B12-569E89A4823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6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2. TỔ CHỨC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87" name="Horizontal Scroll 7"/>
          <p:cNvSpPr/>
          <p:nvPr/>
        </p:nvSpPr>
        <p:spPr>
          <a:xfrm>
            <a:off x="380880" y="1143000"/>
            <a:ext cx="8382240" cy="83808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2.1. HÌNH THỨC TỔ CHỨC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488" name="Group 13"/>
          <p:cNvGrpSpPr/>
          <p:nvPr/>
        </p:nvGrpSpPr>
        <p:grpSpPr>
          <a:xfrm>
            <a:off x="457200" y="1981080"/>
            <a:ext cx="4114800" cy="4267440"/>
            <a:chOff x="457200" y="1981080"/>
            <a:chExt cx="4114800" cy="4267440"/>
          </a:xfrm>
        </p:grpSpPr>
        <p:sp>
          <p:nvSpPr>
            <p:cNvPr id="489" name="Rectangle 3"/>
            <p:cNvSpPr/>
            <p:nvPr/>
          </p:nvSpPr>
          <p:spPr>
            <a:xfrm>
              <a:off x="457200" y="1981080"/>
              <a:ext cx="4114800" cy="42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Tập trung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một đầu mối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(Tập trung)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90" name="Oval 11"/>
            <p:cNvSpPr/>
            <p:nvPr/>
          </p:nvSpPr>
          <p:spPr>
            <a:xfrm>
              <a:off x="2057400" y="1981080"/>
              <a:ext cx="914400" cy="914400"/>
            </a:xfrm>
            <a:prstGeom prst="ellipse">
              <a:avLst/>
            </a:prstGeom>
            <a:solidFill>
              <a:srgbClr val="000029"/>
            </a:solidFill>
            <a:ln w="936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grpSp>
        <p:nvGrpSpPr>
          <p:cNvPr id="491" name="Group 14"/>
          <p:cNvGrpSpPr/>
          <p:nvPr/>
        </p:nvGrpSpPr>
        <p:grpSpPr>
          <a:xfrm>
            <a:off x="4648320" y="1981080"/>
            <a:ext cx="4038480" cy="4267440"/>
            <a:chOff x="4648320" y="1981080"/>
            <a:chExt cx="4038480" cy="4267440"/>
          </a:xfrm>
        </p:grpSpPr>
        <p:sp>
          <p:nvSpPr>
            <p:cNvPr id="492" name="Rectangle 3"/>
            <p:cNvSpPr/>
            <p:nvPr/>
          </p:nvSpPr>
          <p:spPr>
            <a:xfrm>
              <a:off x="4648320" y="1981080"/>
              <a:ext cx="4038480" cy="4267440"/>
            </a:xfrm>
            <a:prstGeom prst="rect">
              <a:avLst/>
            </a:prstGeom>
            <a:noFill/>
            <a:ln w="936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Tập trung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theo chức năng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  <a:p>
              <a:pPr marL="343080" indent="-343080" algn="ctr">
                <a:lnSpc>
                  <a:spcPct val="11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9"/>
                  </a:solidFill>
                  <a:latin typeface="Arial"/>
                </a:rPr>
                <a:t>(Phân tán)</a:t>
              </a:r>
              <a:endParaRPr b="0" lang="en-US" sz="36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493" name="Oval 12"/>
            <p:cNvSpPr/>
            <p:nvPr/>
          </p:nvSpPr>
          <p:spPr>
            <a:xfrm>
              <a:off x="6248520" y="1981080"/>
              <a:ext cx="914400" cy="914400"/>
            </a:xfrm>
            <a:prstGeom prst="ellipse">
              <a:avLst/>
            </a:prstGeom>
            <a:solidFill>
              <a:srgbClr val="000029"/>
            </a:solidFill>
            <a:ln w="9360">
              <a:solidFill>
                <a:srgbClr val="0000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494" name="Footer Placeholder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0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350"/>
                            </p:stCondLst>
                            <p:childTnLst>
                              <p:par>
                                <p:cTn id="12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6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2350"/>
                            </p:stCondLst>
                            <p:childTnLst>
                              <p:par>
                                <p:cTn id="1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3350"/>
                            </p:stCondLst>
                            <p:childTnLst>
                              <p:par>
                                <p:cTn id="1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4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2D08-C849-415C-B503-78E76AC28D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3" name="Date Placeholder 5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07F5-58CB-4275-AEDF-AEE9C7676FE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Số tín chỉ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2 (30 tiết lý thuyế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trình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2 Phần 9 C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Tiểu luận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Nhóm 3 - 5 SV (nộp TL và thuyết trình trên lớ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Hình thức thi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Trắc ngh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Giữa kỳ: Trắc nghiệm (50 câu/60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Cuối kỳ: Trắc nghiệm (50 câu/60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Nghỉ học ≥ 6 tiết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Times New Roman"/>
              </a:rPr>
              <a:t> Cấm thi cuối k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6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TỔNG QUÁT VỀ MÔN HỌ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DBDE-9AF4-4238-8DB5-E1508038B8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9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BE11-6BA6-4F8C-BCE6-ACFFCE4205A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ll activities 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operating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under the office of the administrator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Advantages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easy operating, inspection, personnel, allocation mean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Downside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hard specializatio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99" name="Horizontal Scroll 5"/>
          <p:cNvSpPr/>
          <p:nvPr/>
        </p:nvSpPr>
        <p:spPr>
          <a:xfrm>
            <a:off x="304920" y="10944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CUS A CLU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0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1900"/>
                            </p:stCondLst>
                            <p:childTnLst>
                              <p:par>
                                <p:cTn id="12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9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F32F-C936-4F10-BDF0-449AF29E69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2" name="Date Placeholder 4"/>
          <p:cNvSpPr/>
          <p:nvPr/>
        </p:nvSpPr>
        <p:spPr>
          <a:xfrm>
            <a:off x="457200" y="6245280"/>
            <a:ext cx="2514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3CF7-CF1C-49B3-9F2A-EBDF487C6DA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457200" y="1066680"/>
            <a:ext cx="8229600" cy="5257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Không chia nhỏ thành phòng ba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Mọi hoạt động của VP đặt dưới sự 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điều hành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ủa nhà quản trị hành chín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Ưu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Dễ điều hành, kiểm tra, điều động nhân sự, phân bổ phương tiệ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Khó chuyên môn hóa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5" name="Horizontal Scroll 7"/>
          <p:cNvSpPr/>
          <p:nvPr/>
        </p:nvSpPr>
        <p:spPr>
          <a:xfrm>
            <a:off x="304920" y="10944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ẬP TRUNG MỘT ĐẦU MỐI (TẬP TRUNG)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0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3600"/>
                            </p:stCondLst>
                            <p:childTnLst>
                              <p:par>
                                <p:cTn id="13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4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5C50-7E7F-4860-AA6F-F766681D90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8" name="Date Placeholder 2"/>
          <p:cNvSpPr/>
          <p:nvPr/>
        </p:nvSpPr>
        <p:spPr>
          <a:xfrm>
            <a:off x="457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CFF2-4C0F-4832-9D6C-8D08A2B2002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9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office is divided into several functional expertis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ts val="49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ll office activities 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under the supervision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f the administrator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ts val="49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Advantages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Work specializa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ts val="49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Disadvantages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Easy violation boss regime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1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CUS ON FUNC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3E4E-3720-4259-890D-3A659CF2B4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4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7534-1DE9-4383-BE17-B0CFFE082FF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P được chia ra thành nhiều phòng chức năng theo chuyên mô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oàn bộ hoạt động VP đặt dưới sự 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giám sát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ủa nhà quản trị hành ch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7" name="Horizontal Scroll 6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ẬP TRUNG THEO CHỨC NĂ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PHÂN TÁN)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8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Em hãy phân tích những ưu điểm và nhược điểm của hình thức tổ chức văn phòng tập trung theo chức năng (phân tán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26F5-13EC-43A4-9EFF-3C0011CF7B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16DA-B804-44DD-9A65-980344C87FB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4" name="Horizontal Scroll 7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ÂU HỎI KIỂM TRA 10 PHÚ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E30F-13D0-40A1-92D2-1EE6D10C39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6DD9-325B-43E6-92AC-3019ACE84DE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1600200"/>
            <a:ext cx="8229600" cy="47242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Ưu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huyên môn hóa công việ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Dễ vi phạm chế độ một thủ trưởng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30" name="Horizontal Scroll 6"/>
          <p:cNvSpPr/>
          <p:nvPr/>
        </p:nvSpPr>
        <p:spPr>
          <a:xfrm>
            <a:off x="304920" y="33480"/>
            <a:ext cx="8458200" cy="15667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ƯU, NHƯỢC ĐIỂM VĂN PHÒ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ẬP TRUNG THEO CHỨC NĂ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39B7-70BA-4C77-9BA3-76888683A7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017D-3439-48B7-A87B-9497F8EA950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533" name="Picture 2" descr="http://www.cicb.vn/images/stories/cocau_viet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535" name="Picture 6" descr="http://cicb.vn/templates/cic-trilm/images_trilm/header-vietnamese.png"/>
          <p:cNvPicPr/>
          <p:nvPr/>
        </p:nvPicPr>
        <p:blipFill>
          <a:blip r:embed="rId2"/>
          <a:stretch/>
        </p:blipFill>
        <p:spPr>
          <a:xfrm>
            <a:off x="193680" y="-1522440"/>
            <a:ext cx="9439200" cy="6476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sp>
        <p:nvSpPr>
          <p:cNvPr id="537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D997-675C-4AA2-AE27-E711703237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3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48B3-A5EA-44E1-8396-6F80273D8FD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Leadership Office: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Chief Office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Deputy Chief of staff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Functions: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Clerical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Synthesis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Human Resource Management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Accounting and Cashier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Material facilities management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Protection, receptionist, odd job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2" name="Horizontal Scroll 6"/>
          <p:cNvSpPr/>
          <p:nvPr/>
        </p:nvSpPr>
        <p:spPr>
          <a:xfrm>
            <a:off x="304920" y="33480"/>
            <a:ext cx="84582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2.2. ORGANIZATIONAL STRUCTUR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8765-D6B3-4497-90F1-B344245E54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5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539F-32F6-4E60-AC7F-A5FC8013E91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000" spc="-1" strike="noStrike">
                <a:solidFill>
                  <a:srgbClr val="000029"/>
                </a:solidFill>
                <a:latin typeface="Arial"/>
              </a:rPr>
              <a:t>Lãnh đạo Văn phò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Chánh Văn phò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Phó Chánh Văn phò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000" spc="-1" strike="noStrike">
                <a:solidFill>
                  <a:srgbClr val="000029"/>
                </a:solidFill>
                <a:latin typeface="Arial"/>
              </a:rPr>
              <a:t>Bộ phận chức nă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Văn th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Tổng hợ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Quản lý nhân s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Kế toán – thủ qu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Quản lý cơ sở vật chất (Quản tr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29"/>
                </a:solidFill>
                <a:latin typeface="Arial"/>
              </a:rPr>
              <a:t>Bảo vệ, lễ tân, tạp v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8" name="Horizontal Scroll 6"/>
          <p:cNvSpPr/>
          <p:nvPr/>
        </p:nvSpPr>
        <p:spPr>
          <a:xfrm>
            <a:off x="304920" y="33480"/>
            <a:ext cx="8458200" cy="8809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2.2. CƠ CẤU TỔ CHỨC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4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A043-7754-4317-AE0F-71A5162E4F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5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A1F5-E1E4-4A20-98D3-2CD9B29D484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552" name="Picture 2" descr="http://dbnd.danang.gov.vn/Portals/0/TOCHUC.pn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Văn phòng Đoàn đại biểu Quốc hội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 Hội đồng nhân dâ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 TP</a:t>
            </a: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 Đà Nẵ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5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hapter 1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verview of the Office Admin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hapter 2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Information Management &amp; Pro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hapter 3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rganizing the rece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hapter 4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Meeting &amp; Management program development pla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AE10-6A34-46E0-844C-A803802A07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Date Placeholder 4"/>
          <p:cNvSpPr/>
          <p:nvPr/>
        </p:nvSpPr>
        <p:spPr>
          <a:xfrm>
            <a:off x="457200" y="622944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3898-A8EA-4B0D-80D0-FA85C4C98E6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Horizontal Scroll 6"/>
          <p:cNvSpPr/>
          <p:nvPr/>
        </p:nvSpPr>
        <p:spPr>
          <a:xfrm>
            <a:off x="304920" y="0"/>
            <a:ext cx="845820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RSE PROGRAM (1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57200" y="1066680"/>
            <a:ext cx="8229600" cy="10670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 OF OFFICEMANAGEMEN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4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DC93-4407-497E-B0DA-F253D9F57F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5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568C-741A-4991-95AE-9E3D8F741EB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0" y="0"/>
            <a:ext cx="9144000" cy="129780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ffffff"/>
                </a:solidFill>
                <a:latin typeface="Arial"/>
              </a:rPr>
              <a:t>Văn phòng Tòa án nhân dân tối ca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558" name="Picture 2" descr="http://www.toaan.gov.vn/portal/pls/portal/docs/1/4229271.JP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55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152A-F033-455F-BC31-EA0B052EA1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24A2-A7B4-4694-82CE-0AAA929A4E0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57200" y="1066680"/>
            <a:ext cx="396252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Management response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4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OFFICE MANAGEMENT METHOD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4572000" y="1066680"/>
            <a:ext cx="41148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Management program, planned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6" name="Oval 7"/>
          <p:cNvSpPr/>
          <p:nvPr/>
        </p:nvSpPr>
        <p:spPr>
          <a:xfrm>
            <a:off x="190512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7" name="Oval 8"/>
          <p:cNvSpPr/>
          <p:nvPr/>
        </p:nvSpPr>
        <p:spPr>
          <a:xfrm>
            <a:off x="617220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8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3A9E-3743-42B2-8ABD-1AEE834893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0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F7BE-5F34-4A75-879B-5878DBEE4CA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396252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Quản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heo cá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ứng ph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3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CÁC PHƯƠNG PHÁP QUẢN LÝ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4572000" y="1066680"/>
            <a:ext cx="41148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Quản lý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heo các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lập chương trình,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kế hoạc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5" name="Oval 8"/>
          <p:cNvSpPr/>
          <p:nvPr/>
        </p:nvSpPr>
        <p:spPr>
          <a:xfrm>
            <a:off x="190512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6" name="Oval 9"/>
          <p:cNvSpPr/>
          <p:nvPr/>
        </p:nvSpPr>
        <p:spPr>
          <a:xfrm>
            <a:off x="617220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E40A-D316-45D2-AE6F-4857EF6535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41F3-7B2F-4173-825B-30D4E118B28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457200" y="1066680"/>
            <a:ext cx="8305920" cy="51818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re is no specific plan for the job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first to do it, react, respond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assive managemen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Decision management is always changing because they do not choose the optimal solu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Staff easy to lose confidence in leadership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2" name="Horizontal Scroll 5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RESPONSE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3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8EBB-7E06-4E34-B422-6AE8A2BD69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5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A156-A359-4CD0-A086-C42B1DA734F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990720" y="990360"/>
            <a:ext cx="7772400" cy="4343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Không có kế hoạch cụ th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Đị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h đâu làm đó, phản ứng, đối ph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Bị động trong quản l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Q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uyết định quản lý luôn thay đổi vì chưa chọn được giải pháp tối ư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hân viên dễ mất lòng tin lãnh đ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8" name="Horizontal Scroll 6"/>
          <p:cNvSpPr/>
          <p:nvPr/>
        </p:nvSpPr>
        <p:spPr>
          <a:xfrm>
            <a:off x="304920" y="33480"/>
            <a:ext cx="8534160" cy="9572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ẢN LÝ THEO CÁCH ỨNG PHÓ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990720" y="5410080"/>
            <a:ext cx="7772400" cy="9144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Phát huy tính sáng tạ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1" name="Rectangle 3"/>
          <p:cNvSpPr/>
          <p:nvPr/>
        </p:nvSpPr>
        <p:spPr>
          <a:xfrm rot="5400000">
            <a:off x="-1562400" y="2857680"/>
            <a:ext cx="434340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2" name="Rectangle 3"/>
          <p:cNvSpPr/>
          <p:nvPr/>
        </p:nvSpPr>
        <p:spPr>
          <a:xfrm rot="5400000">
            <a:off x="151920" y="5562360"/>
            <a:ext cx="914400" cy="609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Ưu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DDE6-B2CC-43D4-9F1E-263EDC3FB0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4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3F00-A87D-47BF-99B4-DEFC0C66225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457200" y="1219320"/>
            <a:ext cx="8229600" cy="5181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Is there a specific plan for the job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aving a plan to deal with situation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Allocation of powers and responsibilities to staff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active participant in the work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7" name="Horizontal Scroll 5"/>
          <p:cNvSpPr/>
          <p:nvPr/>
        </p:nvSpPr>
        <p:spPr>
          <a:xfrm>
            <a:off x="304920" y="33480"/>
            <a:ext cx="84582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MENT PROGRAM, PLANNED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9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46F3-EF22-44C4-B036-124FD495BC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0" name="Date Placeholder 5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70FF-7F83-44F2-B2A8-9188D549E9B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ó kế hoạch cụ thể cho công việ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ó phương án giải quyết tình huố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Giao quyền hạn, trách nhiệm cho nhân v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hân viên chủ động trong thực hiện công việ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3" name="Horizontal Scroll 6"/>
          <p:cNvSpPr/>
          <p:nvPr/>
        </p:nvSpPr>
        <p:spPr>
          <a:xfrm>
            <a:off x="304920" y="33480"/>
            <a:ext cx="8458200" cy="14144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ẢN LÝ THEO CÁC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ẬP CHƯƠNG TRÌNH, KẾ HOẠC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4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B86D-8B30-4F46-ABCF-C2B8FD4A89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2E69-1994-4A0D-926B-67A9BD4A9FD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380880" y="1066680"/>
            <a:ext cx="838224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ot apply purely one method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Need to combine the two method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e work must be planned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Unforeseen contingencies: respons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rough response, managers have more experience and creativity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VNI-Times"/>
                <a:ea typeface="Arial"/>
              </a:rPr>
              <a:t>◘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Is the standard response evaluation staff capacity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9" name="Horizontal Scroll 5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AC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CBD2-2DC4-4DE3-A809-B6CFBEE42C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2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24AA-8444-4138-BBC0-0F1563931EC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38224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Không áp dụng thuần túy 1 phương phá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Cần kết hợp hai phương phá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Công việc phải được lập kế hoạc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Tình huống bất ngờ ngoài dự kiến: ứng phó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Thông qua ứng phó, nhà quản trị có thêm kinh nghiệm, sáng tạ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0" lang="en-US" sz="3300" spc="-1" strike="noStrike">
                <a:solidFill>
                  <a:srgbClr val="000029"/>
                </a:solidFill>
                <a:latin typeface="Arial"/>
              </a:rPr>
              <a:t>Ứng phó là tiêu chuẩn đánh giá năng lực cán bộ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5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ỰC TẾ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4EDB-A92D-46D2-AE6D-B814AD0AA6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317B-166F-448A-906A-C2881EC55CF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457200" y="2438280"/>
            <a:ext cx="8229600" cy="22100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reate the best work environmen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onvenient seati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Ensure that confidential documents, materials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1" name="Horizontal Scroll 5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OFFICE LAYOU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2" name="Horizontal Scroll 6"/>
          <p:cNvSpPr/>
          <p:nvPr/>
        </p:nvSpPr>
        <p:spPr>
          <a:xfrm>
            <a:off x="398520" y="1066680"/>
            <a:ext cx="83059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1. PURPOSE &amp; REQUIREMENT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457200" y="5257800"/>
            <a:ext cx="8229600" cy="11430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Make the most of, the office area</a:t>
            </a:r>
            <a:br>
              <a:rPr sz="3600"/>
            </a:b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● Reduce travel time between parts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4" name="Horizontal Scroll 8"/>
          <p:cNvSpPr/>
          <p:nvPr/>
        </p:nvSpPr>
        <p:spPr>
          <a:xfrm>
            <a:off x="380880" y="1828800"/>
            <a:ext cx="41148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5" name="Horizontal Scroll 9"/>
          <p:cNvSpPr/>
          <p:nvPr/>
        </p:nvSpPr>
        <p:spPr>
          <a:xfrm>
            <a:off x="380880" y="4648320"/>
            <a:ext cx="41148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6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6F6C-AC54-40A7-AAC6-B05C69CC6D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E146-30DA-471E-BC2F-8CF2901E34D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8" name="Content Placeholder 2"/>
          <p:cNvSpPr/>
          <p:nvPr/>
        </p:nvSpPr>
        <p:spPr>
          <a:xfrm>
            <a:off x="457200" y="2133720"/>
            <a:ext cx="8229600" cy="4267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5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Overview of documents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6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Procedures &amp; techniques presented documents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7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Style the administrative language in the documents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8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The process of drafting &amp; issuing documents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9"/>
                </a:solidFill>
                <a:latin typeface="Arial"/>
              </a:rPr>
              <a:t>Chapter 9:</a:t>
            </a:r>
            <a:r>
              <a:rPr b="0" lang="en-US" sz="2800" spc="-1" strike="noStrike">
                <a:solidFill>
                  <a:srgbClr val="000029"/>
                </a:solidFill>
                <a:latin typeface="Arial"/>
              </a:rPr>
              <a:t> Technical drafting, presents some common administrative documents.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Horizontal Scroll 7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URSE PROGRAM (2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7200" y="1066680"/>
            <a:ext cx="8229600" cy="106704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ICAL DRAFTING, TEXT LAYOU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F175-454C-4A0A-915E-270B5C2C62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8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2954-2C3D-4984-912F-B2B432B723F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1676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Tạo môi trường làm việc tốt nhấ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Thuận tiện tiếp khá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Đảm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 bảo giữ bí mật văn bản, tài liệu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1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BỐ TRÍ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2" name="Horizontal Scroll 7"/>
          <p:cNvSpPr/>
          <p:nvPr/>
        </p:nvSpPr>
        <p:spPr>
          <a:xfrm>
            <a:off x="398520" y="1066680"/>
            <a:ext cx="83059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1. MỤC ĐÍCH, YÊU CẦU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457200" y="4800600"/>
            <a:ext cx="8229600" cy="16002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Tận dụng tối đa, cơ động diện tích VP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400" spc="-1" strike="noStrike">
                <a:solidFill>
                  <a:srgbClr val="000029"/>
                </a:solidFill>
                <a:latin typeface="Arial"/>
              </a:rPr>
              <a:t>Giảm thiểu thời gian di chuyển giữa các bộ phận.</a:t>
            </a:r>
            <a:endParaRPr b="0" lang="en-US" sz="3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4" name="Horizontal Scroll 9"/>
          <p:cNvSpPr/>
          <p:nvPr/>
        </p:nvSpPr>
        <p:spPr>
          <a:xfrm>
            <a:off x="380880" y="1828800"/>
            <a:ext cx="411480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ục đíc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5" name="Horizontal Scroll 10"/>
          <p:cNvSpPr/>
          <p:nvPr/>
        </p:nvSpPr>
        <p:spPr>
          <a:xfrm>
            <a:off x="380880" y="4191120"/>
            <a:ext cx="41148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êu cầu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6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CC11-D584-4696-B587-314863517F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D846-C28D-4A4B-9E75-21765C590BA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0" name="Horizontal Scroll 4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2. METHODS OFFICE LAYOU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457200" y="1066680"/>
            <a:ext cx="38862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Close spa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Layout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4572000" y="1066680"/>
            <a:ext cx="41148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Open spa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office layou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3" name="Oval 7"/>
          <p:cNvSpPr/>
          <p:nvPr/>
        </p:nvSpPr>
        <p:spPr>
          <a:xfrm>
            <a:off x="190512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4" name="Oval 8"/>
          <p:cNvSpPr/>
          <p:nvPr/>
        </p:nvSpPr>
        <p:spPr>
          <a:xfrm>
            <a:off x="617220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8DA9-E426-46DA-B7DA-C8C1E1B4C8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0168-7F77-42D2-9AFD-463D1C45413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9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2. PHƯƠNG PHÁP BỐ TRÍ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457200" y="1066680"/>
            <a:ext cx="38862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bố trí the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không gia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đó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572000" y="1066680"/>
            <a:ext cx="4114800" cy="5105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bố trí the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không gia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mở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2" name="Oval 10"/>
          <p:cNvSpPr/>
          <p:nvPr/>
        </p:nvSpPr>
        <p:spPr>
          <a:xfrm>
            <a:off x="190512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3" name="Oval 11"/>
          <p:cNvSpPr/>
          <p:nvPr/>
        </p:nvSpPr>
        <p:spPr>
          <a:xfrm>
            <a:off x="6172200" y="1066680"/>
            <a:ext cx="914400" cy="91440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4" name="Footer Placeholder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42C0-93BB-46A0-A2B7-12B483427A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6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D968-17A7-4E2E-9945-6C187836C73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■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ffice split: Each unit a separate room, the door closed.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◘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urity job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o ensure the privacy of employees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uitable work should focus on high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◘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isadvantages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Cost area, increasing the cost of electricity, office equipment</a:t>
            </a:r>
            <a:endParaRPr b="0" lang="en-US" sz="35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9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OSE SPACE LAYOUT OFFICE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D92D-5F06-4F0E-B099-2E592E4975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42ED-B687-423D-A6F5-D83AB3C7066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ăn phòng chia nhỏ: Từng bộ phận bố trí phòng riêng, cửa đóng kín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Ưu điểm: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Bảo mật công việc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Bảo đảm tính riêng tư của nhân viê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hù hợp công việc cần tập trung cao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ốn diện tích, tăng chi phí điện, thiết bị VP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5" name="Horizontal Scroll 8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PHÒNG KHÔNG GIAN ĐÓ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D7E2-036B-4453-A53C-20904E439F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097D-AD54-4B2A-B1F2-69E6AFD07BD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670" name="Picture 2" descr="http://cuanhualoithep.com/wp-content/uploads/vach-kinh-pano1.jpg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502920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2" name="Horizontal Scroll 6"/>
          <p:cNvSpPr/>
          <p:nvPr/>
        </p:nvSpPr>
        <p:spPr>
          <a:xfrm>
            <a:off x="228600" y="33480"/>
            <a:ext cx="86868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PHÒNG KHÔNG GIAN ĐÓ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E5B4-C2BD-4724-91B6-DE52F69726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4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30EB-E050-4E97-A7E2-2209E9A5469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Các bộ phận bố trí trong phòng lớ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Ưu điể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iết kiệm chi phí, diện 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Thuận tiện trong giao tiếp giữa các bộ ph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Dễ quản lý nhân viên về thời g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◘</a:t>
            </a:r>
            <a:r>
              <a:rPr b="1" i="1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Nhược điể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Không phù hợp công việc cần tập trung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7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ĂN PHÒNG KHÔNG GIAN MỞ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78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656A-1446-4C1E-A1C8-0680569CD2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0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A641-5587-4A2E-915F-3EA0D88792A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681" name="Picture 2" descr="http://www.donnhatrongoi.info/Uploads/Image/van_phong.jpg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10516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3" name="Horizontal Scroll 7"/>
          <p:cNvSpPr/>
          <p:nvPr/>
        </p:nvSpPr>
        <p:spPr>
          <a:xfrm>
            <a:off x="228600" y="0"/>
            <a:ext cx="86868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Ô HÌNH VĂN PHÒNG MỞ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684" name="Picture 8" descr="http://vneconomy2.vcmedia.vn/zoom/500_312/Images/Uploaded/Share/2011/02/08/044.jpg"/>
          <p:cNvPicPr/>
          <p:nvPr/>
        </p:nvPicPr>
        <p:blipFill>
          <a:blip r:embed="rId2"/>
          <a:stretch/>
        </p:blipFill>
        <p:spPr>
          <a:xfrm>
            <a:off x="257040" y="1219320"/>
            <a:ext cx="8658360" cy="5181480"/>
          </a:xfrm>
          <a:prstGeom prst="rect">
            <a:avLst/>
          </a:prstGeom>
          <a:ln w="0">
            <a:noFill/>
          </a:ln>
        </p:spPr>
      </p:pic>
      <p:sp>
        <p:nvSpPr>
          <p:cNvPr id="685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2C7C-C6EA-4509-8962-36CDA12C97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7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C0BE-01C8-4C44-A123-734B399A903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688" name="Picture 2" descr="http://ssp.com.vn/store_editor/image/Sanphamvadichvu/Chothuevanphong/van%20phong%202.jpg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1051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0" name="Horizontal Scroll 7"/>
          <p:cNvSpPr/>
          <p:nvPr/>
        </p:nvSpPr>
        <p:spPr>
          <a:xfrm>
            <a:off x="228600" y="0"/>
            <a:ext cx="8686800" cy="11858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Ô HÌNH VĂN PHÒNG MỞ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F864-600D-4172-B5B0-5466F403FE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3" name="Date Placeholder 2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EADF-2FE8-487B-9F81-BCE6EFA2551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457200" y="990720"/>
            <a:ext cx="830592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Equipment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elephone, fax, photo-copy machine, computers ..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Furniture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ables, chairs, filing cabinets, racks document ..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Modernization of the office: Computerization &amp; telecommunication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Paperless office, electronic documents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Electronic office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6" name="Horizontal Scroll 5"/>
          <p:cNvSpPr/>
          <p:nvPr/>
        </p:nvSpPr>
        <p:spPr>
          <a:xfrm>
            <a:off x="304920" y="0"/>
            <a:ext cx="8534160" cy="10335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3. OFFICE EQUIPMENT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7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E655-E20C-4BEE-818A-1493A7080B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A0F1-627A-4AFF-A45C-70E04443E91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743200" y="2133360"/>
            <a:ext cx="5943600" cy="5331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Khái quát về QT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6" name="Horizontal Scroll 6"/>
          <p:cNvSpPr/>
          <p:nvPr/>
        </p:nvSpPr>
        <p:spPr>
          <a:xfrm>
            <a:off x="304920" y="33480"/>
            <a:ext cx="8458200" cy="95724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ƯƠNG TRÌNH MÔN HỌC (1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990720"/>
            <a:ext cx="8229600" cy="99036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ẦN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ỔNG QUAN VỀ QUẢN TRỊ VĂN PHÒ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158" name="Picture 9" descr="https://encrypted-tbn1.gstatic.com/images?q=tbn:ANd9GcRz0-7y_77Ycxnori6GErNJ3ju76oqe8Xd_a6hhufYClLZGMaYo4A"/>
          <p:cNvPicPr/>
          <p:nvPr/>
        </p:nvPicPr>
        <p:blipFill>
          <a:blip r:embed="rId1"/>
          <a:stretch/>
        </p:blipFill>
        <p:spPr>
          <a:xfrm>
            <a:off x="485640" y="5105520"/>
            <a:ext cx="8201160" cy="129528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59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0" name="Rounded Rectangle 10"/>
          <p:cNvSpPr/>
          <p:nvPr/>
        </p:nvSpPr>
        <p:spPr>
          <a:xfrm>
            <a:off x="457200" y="2133720"/>
            <a:ext cx="2209680" cy="5331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1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743200" y="2743200"/>
            <a:ext cx="5943600" cy="533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Quản trị thông tin &amp; hồ sơ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2" name="Rounded Rectangle 13"/>
          <p:cNvSpPr/>
          <p:nvPr/>
        </p:nvSpPr>
        <p:spPr>
          <a:xfrm>
            <a:off x="457200" y="2743200"/>
            <a:ext cx="2209680" cy="5335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743200" y="3352680"/>
            <a:ext cx="5943600" cy="533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Tổ chức công tác lễ tâ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743200" y="3962520"/>
            <a:ext cx="5943600" cy="10666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Quản trị hội họp &amp; xây dựng chương trình, kế hoạch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5" name="Rounded Rectangle 16"/>
          <p:cNvSpPr/>
          <p:nvPr/>
        </p:nvSpPr>
        <p:spPr>
          <a:xfrm>
            <a:off x="457200" y="3352680"/>
            <a:ext cx="2209680" cy="5335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3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6" name="Rounded Rectangle 17"/>
          <p:cNvSpPr/>
          <p:nvPr/>
        </p:nvSpPr>
        <p:spPr>
          <a:xfrm>
            <a:off x="457200" y="3962520"/>
            <a:ext cx="2209680" cy="106668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9CFA-F79B-4EC7-8D2F-566625A05B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9" name="Date Placeholder 5"/>
          <p:cNvSpPr/>
          <p:nvPr/>
        </p:nvSpPr>
        <p:spPr>
          <a:xfrm>
            <a:off x="45720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E7FC-1788-4367-91BF-F69D4B6DFB2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Thiết bị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Điện thoại, máy fax, máy photo-copy, máy vi tính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Đồ dùng: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Bàn, ghế, tủ hồ sơ, giá để tài liệu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Hiện đại hóa công tác VP: Tin học hóa, viễn thông hó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P không giấy, văn thư điện t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Văn phòng điện t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02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3. TRANG THIẾT BỊ VĂN PHÒNG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03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Ô HÌNH VĂN PHÒNG ĐIỆN T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379D-03B5-437E-BC27-8A0C6887C6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0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C219-D58D-4D13-8373-29DF12548CE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07" name="Picture 6" descr="http://doanhnghiepmoi.net/UploadImages/VANPHONGDIENTU.pn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70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4A03-44FB-4399-B346-2D450AA094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0" name="Date Placeholder 4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359C-8E30-4837-92C7-C2612EBE7E9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11" name="Picture 2" descr="http://egov.iuh.edu.vn/Resources/Icons/Design/bgLogin.png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3341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3" name="Horizontal Scroll 6"/>
          <p:cNvSpPr/>
          <p:nvPr/>
        </p:nvSpPr>
        <p:spPr>
          <a:xfrm>
            <a:off x="304920" y="33480"/>
            <a:ext cx="853416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Ệ THỐNG VĂN THƯ ĐIỆN TỬ IUH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4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DD5A-0022-4EF8-AE56-CDD96B3D1E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6" name="Date Placeholder 2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7EDD-BAAE-4318-B2B6-019A34F5AB8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7" name="Rectangle 3"/>
          <p:cNvSpPr/>
          <p:nvPr/>
        </p:nvSpPr>
        <p:spPr>
          <a:xfrm>
            <a:off x="457200" y="1066680"/>
            <a:ext cx="8458200" cy="106704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■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Office tradition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    The actual activity in the office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9" name="Horizontal Scroll 5"/>
          <p:cNvSpPr/>
          <p:nvPr/>
        </p:nvSpPr>
        <p:spPr>
          <a:xfrm>
            <a:off x="304920" y="33480"/>
            <a:ext cx="861048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FORMS OF OFFICE OPERATION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0" name="Horizontal Scroll 6"/>
          <p:cNvSpPr/>
          <p:nvPr/>
        </p:nvSpPr>
        <p:spPr>
          <a:xfrm>
            <a:off x="457200" y="990720"/>
            <a:ext cx="380988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fice tradition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457200" y="2362320"/>
            <a:ext cx="8458200" cy="40384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■ </a:t>
            </a: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Virtual Office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:   No actual work at the office</a:t>
            </a:r>
            <a:br>
              <a:rPr sz="3200"/>
            </a:b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Office for rent 0m ²: Registered address founded company, branches, representative offices, set the table name company, receive &amp; send faxes, letters, mailers &amp; other utilities rent on demand: seats, meeting rooms...</a:t>
            </a:r>
            <a:br>
              <a:rPr sz="3200"/>
            </a:b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● Virtual office is only suitable representative offices, small businesses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2" name="Horizontal Scroll 8"/>
          <p:cNvSpPr/>
          <p:nvPr/>
        </p:nvSpPr>
        <p:spPr>
          <a:xfrm>
            <a:off x="457200" y="2286000"/>
            <a:ext cx="3200400" cy="6858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tual Offic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3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4" name="Oval 10"/>
          <p:cNvSpPr/>
          <p:nvPr/>
        </p:nvSpPr>
        <p:spPr>
          <a:xfrm>
            <a:off x="0" y="1066680"/>
            <a:ext cx="457200" cy="6098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5" name="Oval 11"/>
          <p:cNvSpPr/>
          <p:nvPr/>
        </p:nvSpPr>
        <p:spPr>
          <a:xfrm>
            <a:off x="0" y="2362320"/>
            <a:ext cx="457200" cy="60948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0FE7-D96A-40BE-8E5F-AC58E28B2A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7" name="Date Placeholder 5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5180-6D84-454B-9A4D-90C222C77C8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7617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VP truyền thống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Hoạt động thực tế tại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0" name="Horizontal Scroll 6"/>
          <p:cNvSpPr/>
          <p:nvPr/>
        </p:nvSpPr>
        <p:spPr>
          <a:xfrm>
            <a:off x="304920" y="33480"/>
            <a:ext cx="861048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HÌNH THỨC HOẠT ĐỘNG CỦA V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457200" y="2209680"/>
            <a:ext cx="8381880" cy="411480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VP ảo: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  Không hoạt động thực tế tại VP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VP cho thuê 0m²: Địa chỉ đăng ký thành lập Cty, Chi nhánh, VPĐD, đặt bảng tên Cty, nhận &amp; gởi fax, thư từ bưu phẩm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VNI-Times"/>
                <a:ea typeface="Arial"/>
              </a:rPr>
              <a:t>●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Các tiện ích khác thuê theo nhu cầu: chỗ ngồi, phòng họp, photocopy, máy in…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Arial"/>
              </a:rPr>
              <a:t>● </a:t>
            </a:r>
            <a:r>
              <a:rPr b="0" lang="en-US" sz="3200" spc="-1" strike="noStrike">
                <a:solidFill>
                  <a:srgbClr val="000029"/>
                </a:solidFill>
                <a:latin typeface="Arial"/>
              </a:rPr>
              <a:t>VP ảo chỉ thích hợp VPĐD, DN nhỏ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2" name="Horizontal Scroll 8"/>
          <p:cNvSpPr/>
          <p:nvPr/>
        </p:nvSpPr>
        <p:spPr>
          <a:xfrm>
            <a:off x="457200" y="2133720"/>
            <a:ext cx="1752480" cy="76176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P ảo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3" name="Horizontal Scroll 9"/>
          <p:cNvSpPr/>
          <p:nvPr/>
        </p:nvSpPr>
        <p:spPr>
          <a:xfrm>
            <a:off x="457200" y="1143000"/>
            <a:ext cx="3733920" cy="76212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P truyền thố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4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5" name="Oval 11"/>
          <p:cNvSpPr/>
          <p:nvPr/>
        </p:nvSpPr>
        <p:spPr>
          <a:xfrm>
            <a:off x="0" y="1219320"/>
            <a:ext cx="457200" cy="60948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6" name="Oval 12"/>
          <p:cNvSpPr/>
          <p:nvPr/>
        </p:nvSpPr>
        <p:spPr>
          <a:xfrm>
            <a:off x="0" y="2209680"/>
            <a:ext cx="457200" cy="609840"/>
          </a:xfrm>
          <a:prstGeom prst="ellipse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8688-3F3E-4096-80AC-710B726364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8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7B00-65BC-4866-A624-38D711EB7E3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39" name="Picture 2" descr="http://images03.jaovat.com/ui/4/07/51/1348481685_441080651_14-Cho-thue-van-phong-tron-goi-tai-137-Nguyen-Ngoc-V-Ha-Noi-0977177155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2" descr="http://raovat.haiphonginfo.vn/Images/Items/%E1%BA%A3nh%289%2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EDBC-C20C-4098-BE5E-AD1182352D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43" name="Date Placeholder 4"/>
          <p:cNvSpPr/>
          <p:nvPr/>
        </p:nvSpPr>
        <p:spPr>
          <a:xfrm>
            <a:off x="457200" y="6245280"/>
            <a:ext cx="274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DC0D-33DD-447A-B29F-484C5E0F13D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44" name="Picture 2" descr="http://www.goffice.vn/vn/images/stories/hinhanh/37/1.jpg"/>
          <p:cNvPicPr/>
          <p:nvPr/>
        </p:nvPicPr>
        <p:blipFill>
          <a:blip r:embed="rId1"/>
          <a:stretch/>
        </p:blipFill>
        <p:spPr>
          <a:xfrm>
            <a:off x="304920" y="1219320"/>
            <a:ext cx="3504960" cy="51051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745" name="Title 1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46" name="Title 1"/>
          <p:cNvSpPr/>
          <p:nvPr/>
        </p:nvSpPr>
        <p:spPr>
          <a:xfrm>
            <a:off x="3886200" y="1219320"/>
            <a:ext cx="1371600" cy="510516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ỊCH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Ụ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O THUÊ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ĂN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ÒNG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ẢO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47" name="Title 1"/>
          <p:cNvSpPr/>
          <p:nvPr/>
        </p:nvSpPr>
        <p:spPr>
          <a:xfrm>
            <a:off x="0" y="0"/>
            <a:ext cx="45720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igon Trade Center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37 Tôn Đức Thắng)</a:t>
            </a:r>
            <a:endParaRPr b="0" lang="en-US" sz="30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0" y="-360"/>
            <a:ext cx="4572000" cy="1143000"/>
          </a:xfrm>
          <a:prstGeom prst="rect">
            <a:avLst/>
          </a:prstGeom>
          <a:solidFill>
            <a:srgbClr val="00002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Saigon Tower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(29 Lê Duẩ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50" name="Rounded Rectangle 12"/>
          <p:cNvSpPr/>
          <p:nvPr/>
        </p:nvSpPr>
        <p:spPr>
          <a:xfrm>
            <a:off x="304920" y="5715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G-Office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51" name="Picture 14" descr="Regus Virtual Office in Ho Chi Minh City, Saigon Tower"/>
          <p:cNvPicPr/>
          <p:nvPr/>
        </p:nvPicPr>
        <p:blipFill>
          <a:blip r:embed="rId2"/>
          <a:stretch/>
        </p:blipFill>
        <p:spPr>
          <a:xfrm>
            <a:off x="5334120" y="1219320"/>
            <a:ext cx="3581280" cy="51051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752" name="Rounded Rectangle 14"/>
          <p:cNvSpPr/>
          <p:nvPr/>
        </p:nvSpPr>
        <p:spPr>
          <a:xfrm>
            <a:off x="5334120" y="5715000"/>
            <a:ext cx="19047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</a:rPr>
              <a:t>Regus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1"/>
          <p:cNvSpPr/>
          <p:nvPr/>
        </p:nvSpPr>
        <p:spPr>
          <a:xfrm>
            <a:off x="6553080" y="62326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7B0A-2D40-429C-BF20-9E68BD695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54" name="Date Placeholder 2"/>
          <p:cNvSpPr/>
          <p:nvPr/>
        </p:nvSpPr>
        <p:spPr>
          <a:xfrm>
            <a:off x="457200" y="622944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694F-5ECC-437D-83A3-AC1CA65A6FB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33840" y="-9062640"/>
            <a:ext cx="57236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ảng giá dịch vụ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ảng giá gói cước văn phòng ảo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56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</p:pic>
      <p:graphicFrame>
        <p:nvGraphicFramePr>
          <p:cNvPr id="757" name=""/>
          <p:cNvGraphicFramePr/>
          <p:nvPr/>
        </p:nvGraphicFramePr>
        <p:xfrm>
          <a:off x="228600" y="1676520"/>
          <a:ext cx="8610480" cy="297180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Gói cướ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HD Tow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79240"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Basic Cl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780.000 VNĐ/thá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77800"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Economy Cl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1.180.000 VNĐ/thá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78160"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Business Cl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1.680.000 VNĐ/thá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77800"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First Cl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10080" rIns="10080" tIns="10080" bIns="10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29"/>
                          </a:solidFill>
                          <a:latin typeface="Arial"/>
                        </a:rPr>
                        <a:t>2.500.000 VNĐ/thá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10080" marR="10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758" name="Rectangle 12"/>
          <p:cNvSpPr/>
          <p:nvPr/>
        </p:nvSpPr>
        <p:spPr>
          <a:xfrm>
            <a:off x="228600" y="4648320"/>
            <a:ext cx="8610480" cy="167616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Cty 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Đầu tư 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Hữu Liên.</a:t>
            </a:r>
            <a:br>
              <a:rPr sz="3200"/>
            </a:b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Lầu 5, HD Tower, 25bis Nguyễn Thị Minh Khai, Bến Nghé, Q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 1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P.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HC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59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3800-9C63-4393-BDC3-593C391F1D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6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0E83-7AE7-49D6-8B8E-FD9661DB60C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62" name="Picture 2" descr="http://www.sohovina.com/data/Picture/Cho%20ngoiu%20ca%20nhan_1331349708.jpg"/>
          <p:cNvPicPr/>
          <p:nvPr/>
        </p:nvPicPr>
        <p:blipFill>
          <a:blip r:embed="rId1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4" descr="http://www.sohovina.com/data/Picture/Phong%20hop_1331349562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005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6" descr="http://www.sohovina.com/data/Picture/Sanh%20tiep%20khach%285%29_1331601725.jpg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8" descr="http://www.sohovina.com/data/Picture/Tien%20ich%20tai%20soho%286%29_1331601808.jpg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0" descr="http://www.soffice.vn/files/news/283/6d402d68-f3c7-4465-bd5e-2897eebaeb33.jpg"/>
          <p:cNvPicPr/>
          <p:nvPr/>
        </p:nvPicPr>
        <p:blipFill>
          <a:blip r:embed="rId5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4" descr="http://www.soffice.vn/files/news/303/bbb35732-1d21-4811-81bd-83d195c7667b.JPG"/>
          <p:cNvPicPr/>
          <p:nvPr/>
        </p:nvPicPr>
        <p:blipFill>
          <a:blip r:embed="rId6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6" descr="http://www.soffice.vn/files/assets/canhcam/25-bis_daidien.jpg"/>
          <p:cNvPicPr/>
          <p:nvPr/>
        </p:nvPicPr>
        <p:blipFill>
          <a:blip r:embed="rId7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769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8515-9FD8-4535-A58F-39604B92B7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1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E56E-CD8F-43D1-BA3E-EE791FD576F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772" name="Picture 2" descr="http://www.executivespacesolutions.com/wp-content/uploads/Virtual-Office-Solutions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655308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0274-5BB9-49B3-89D2-012C2BE25D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8" name="Date Placeholder 5"/>
          <p:cNvSpPr/>
          <p:nvPr/>
        </p:nvSpPr>
        <p:spPr>
          <a:xfrm>
            <a:off x="4572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6272-AB1B-43F9-AC42-D0E36D6081D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743200" y="2133360"/>
            <a:ext cx="5943600" cy="5331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Khái quát về V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1" name="Horizontal Scroll 8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ƯƠNG TRÌNH MÔN HỌC (2)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457200" y="1066680"/>
            <a:ext cx="8229600" cy="990720"/>
          </a:xfrm>
          <a:prstGeom prst="rect">
            <a:avLst/>
          </a:prstGeom>
          <a:solidFill>
            <a:srgbClr val="000029"/>
          </a:solidFill>
          <a:ln w="9360">
            <a:solidFill>
              <a:srgbClr val="0000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ẦN 2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Ỹ THUẬT SOẠN THẢO, TRÌNH BÀY VB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3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4" name="Rounded Rectangle 10"/>
          <p:cNvSpPr/>
          <p:nvPr/>
        </p:nvSpPr>
        <p:spPr>
          <a:xfrm>
            <a:off x="457200" y="2133720"/>
            <a:ext cx="2209680" cy="5331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5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743200" y="2743200"/>
            <a:ext cx="5943600" cy="5335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Thể thức, kỹ thuật trình bày VB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743200" y="3352680"/>
            <a:ext cx="5943600" cy="990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Phong cách ngôn ngữ trong VB hành chính - công vụ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2743200" y="4419720"/>
            <a:ext cx="5943600" cy="99036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Quy trình soạn thảo ban hành VB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2743200" y="5486400"/>
            <a:ext cx="5943600" cy="99072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Kỹ thuật soạn thảo, trình bày VB hành chính thông dụng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9" name="Rounded Rectangle 15"/>
          <p:cNvSpPr/>
          <p:nvPr/>
        </p:nvSpPr>
        <p:spPr>
          <a:xfrm>
            <a:off x="457200" y="2743200"/>
            <a:ext cx="2209680" cy="5335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6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0" name="Rounded Rectangle 16"/>
          <p:cNvSpPr/>
          <p:nvPr/>
        </p:nvSpPr>
        <p:spPr>
          <a:xfrm>
            <a:off x="457200" y="3352680"/>
            <a:ext cx="2209680" cy="9907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7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1" name="Rounded Rectangle 17"/>
          <p:cNvSpPr/>
          <p:nvPr/>
        </p:nvSpPr>
        <p:spPr>
          <a:xfrm>
            <a:off x="457200" y="4419720"/>
            <a:ext cx="2209680" cy="9903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8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2" name="Rounded Rectangle 18"/>
          <p:cNvSpPr/>
          <p:nvPr/>
        </p:nvSpPr>
        <p:spPr>
          <a:xfrm>
            <a:off x="457200" y="5486400"/>
            <a:ext cx="2209680" cy="9907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9"/>
                </a:solidFill>
                <a:latin typeface="Arial"/>
                <a:ea typeface="Times New Roman"/>
              </a:rPr>
              <a:t>Chương 9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A447-8712-45D4-94F0-6AC37FF11C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5" name="Date Placeholder 2"/>
          <p:cNvSpPr/>
          <p:nvPr/>
        </p:nvSpPr>
        <p:spPr>
          <a:xfrm>
            <a:off x="457200" y="624528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ED2E-C015-46AF-9272-1DEA0B6AED3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ffice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he basic functions of the office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rganizational structure of the office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The forms of the office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Analysis of the role of the office for agencies &amp; organizations?</a:t>
            </a:r>
            <a:br>
              <a:rPr sz="3600"/>
            </a:b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6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Office management methods, advantages &amp; disadvantages?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7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8" name="Horizontal Scroll 5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9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8D0D-8BB2-4324-9BCB-420FA99AD6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81" name="Date Placeholder 5"/>
          <p:cNvSpPr/>
          <p:nvPr/>
        </p:nvSpPr>
        <p:spPr>
          <a:xfrm>
            <a:off x="457200" y="624528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6C1B-8239-4680-95DD-30EDB1CAD5C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9360">
            <a:solidFill>
              <a:srgbClr val="000029"/>
            </a:solidFill>
            <a:miter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Văn phòng là gì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ác chức năng cơ bản của văn phò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ơ cấu tổ chức văn phò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Các hình thức tổ chức văn phò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5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Phân tích vai trò của văn phòng đối với cơ quan, tổ chứ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9"/>
                </a:solidFill>
                <a:latin typeface="Arial"/>
              </a:rPr>
              <a:t>6.</a:t>
            </a:r>
            <a:r>
              <a:rPr b="0" lang="en-US" sz="3600" spc="-1" strike="noStrike">
                <a:solidFill>
                  <a:srgbClr val="000029"/>
                </a:solidFill>
                <a:latin typeface="Arial"/>
              </a:rPr>
              <a:t> Nêu các phương pháp quản lý văn phòng, ưu nhược điể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5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84" name="Horizontal Scroll 6"/>
          <p:cNvSpPr/>
          <p:nvPr/>
        </p:nvSpPr>
        <p:spPr>
          <a:xfrm>
            <a:off x="304920" y="33480"/>
            <a:ext cx="8458200" cy="1033200"/>
          </a:xfrm>
          <a:prstGeom prst="horizontalScroll">
            <a:avLst>
              <a:gd name="adj" fmla="val 12500"/>
            </a:avLst>
          </a:prstGeom>
          <a:solidFill>
            <a:srgbClr val="000029"/>
          </a:solidFill>
          <a:ln w="9360">
            <a:solidFill>
              <a:srgbClr val="00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ÂU HỎI ÔN TẬP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85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S. Nguyễn Nam Hà</a:t>
            </a:r>
            <a:endParaRPr b="0" lang="en-US" sz="12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03:20:02Z</dcterms:created>
  <dc:creator>Bài giảng QTVP_Thầy Nam Hà</dc:creator>
  <dc:description/>
  <dc:language>en-US</dc:language>
  <cp:lastModifiedBy>ntc</cp:lastModifiedBy>
  <dcterms:modified xsi:type="dcterms:W3CDTF">2014-03-23T17:30:44Z</dcterms:modified>
  <cp:revision>677</cp:revision>
  <dc:subject/>
  <dc:title>Chương 1</dc:title>
</cp:coreProperties>
</file>